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F45EDF9-2EAD-48CE-8974-4A7C8A2A32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e Law of Cosines (Cosine Rule) wikipedia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3B51767-7A74-4203-A9C6-9D1EDBB10D56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9BCAC7D-0C90-4A52-B66A-66C282BAA1CF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CDB8B8F-AABD-4716-9BDB-43A0517300E4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9372DEE-AD09-4C6E-9678-E1CC0F13624C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3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3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56F15B3-44CB-4DD9-85C7-CAB3F3C5520F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D978998-1C42-46EF-AF95-013565936976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6790D0A-B617-4163-B7F2-12919B4ADF89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34E4526-FE2F-4366-94F6-AA450944FBF6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FFBBE2F-1119-4A5B-8664-7D0E11951F36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F179024-092E-45A8-AD16-43EF4ED2E695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3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3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DB0781B-8D04-4F60-825B-8AEA7DC553C2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B1CE068-B38E-4A27-B53C-0D2EC96E208F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A2BEA0E-C769-4202-AEE1-326EF3BD39BB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F2B45EF-E78F-4139-87F3-41B387D5A246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7137C28-2658-489D-AD3F-B56BF29694B6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3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F9C1B0F-659B-401A-B4EE-D03CB0933073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宋体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273320" y="71748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74880" y="4537080"/>
            <a:ext cx="536544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1D452B4-95D0-4D49-9576-7B5B129698D9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0606A1E-F633-4821-B1A6-F37D51DDA379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宋体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273320" y="71748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74880" y="4537080"/>
            <a:ext cx="5365440" cy="437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MART: Cornell (Salton) IR system of 1970s to 19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02A8E4C-59FA-4AA4-90B4-DDDDCFAF7A23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宋体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73320" y="71748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74880" y="4537080"/>
            <a:ext cx="5365440" cy="437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long vector space query is like a disjunction: you have to consider documents with any of the words, and sum partial cosine similarities over the various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FC73557-FFAB-4315-B7FC-5C50695AFE89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宋体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273320" y="71748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74880" y="4537080"/>
            <a:ext cx="536544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321BC73-7E94-4DC8-8159-4AB029BE738A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359DBDD-CAAF-42BD-85C7-CF953A57A0CF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宋体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273320" y="71748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74880" y="4537080"/>
            <a:ext cx="536544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D6F838-FD01-4B1D-9033-B660F7349FEA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宋体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273320" y="71748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74880" y="4537080"/>
            <a:ext cx="536544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8286A52-E61C-4C19-8BB7-2A687801898C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3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EB53FB9-50BB-4D0A-AB51-32BA2C25DD51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F1CCC52-B199-4A72-A105-25A862491C48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0D93FB8-CACE-491B-A74A-41211D105B36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7A1A593-D224-4E0C-AB98-647567F32D7D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19C7874-A6E5-4507-A447-DCB9F1E3E314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2B72C10-2D49-4D19-9BD7-D77491A39CC7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F9350AF-669E-446B-B38F-C5C1EF1D040A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3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3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3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3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3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3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3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3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3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3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3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3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3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3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3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3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F3C466B-C085-4BBD-973D-A9DB3B19C1AC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183C-F519-45D0-B1CF-91BC4C64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B921-B0A6-4F64-9C22-A7C78856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DBFE-0804-4D05-9B0D-38552796B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E0E8-323D-418B-BB38-6F81E1556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019E-2D03-4D9B-91FB-B375C398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B608-6BFE-4A58-B4AB-5A04D8C3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05F3-6C8C-4356-8240-A0F44FD6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2ADC-78C6-4177-8B87-930E4D5F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38EA-F4CA-4714-964F-E6EAD603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89D5-D83C-4695-A64D-50EA0E83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B854-2DE4-494B-A2AD-E3D1373B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CFBE-CFDE-486D-9012-4483ACD8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2311-8F7B-4B00-9D87-15B8D595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5890-2F2F-4B6D-B9E0-C17D8FD6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E333-08D2-4AE2-9029-8EAF28F9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C63A-F365-46B6-93D6-698840FFB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A408-2E73-4AC7-9B5E-B5DC3E378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3477-2AA8-427F-88B8-BB7B53BE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4375-569A-4005-8E5C-276F3E9A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1D45-F340-4350-9E47-5746802B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E0E5-8466-4945-9D42-827DD20A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E8F7-CDDD-4B9D-95C2-BAD414D4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DAC5-0318-4BAC-AD04-B53AA1E7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B995-F5EC-4756-B237-46DD7F40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66C8-3F63-46D2-903A-1AAD5C247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15B2-92D9-4032-A24E-6ADB01E076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lgoritmi per IR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Lucida Sans"/>
              </a:rPr>
              <a:t>Ranking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 graphical exampl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463680" y="5805360"/>
            <a:ext cx="5769360" cy="1079280"/>
            <a:chOff x="463680" y="5805360"/>
            <a:chExt cx="5769360" cy="1079280"/>
          </a:xfrm>
        </p:grpSpPr>
        <p:sp>
          <p:nvSpPr>
            <p:cNvPr id="151" name="AutoShape 4"/>
            <p:cNvSpPr/>
            <p:nvPr/>
          </p:nvSpPr>
          <p:spPr>
            <a:xfrm>
              <a:off x="468360" y="5805360"/>
              <a:ext cx="5761080" cy="1079280"/>
            </a:xfrm>
            <a:prstGeom prst="roundRect">
              <a:avLst>
                <a:gd name="adj" fmla="val 16667"/>
              </a:avLst>
            </a:prstGeom>
            <a:solidFill>
              <a:srgbClr val="ffcf0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2" name="Text Box 5"/>
            <p:cNvSpPr/>
            <p:nvPr/>
          </p:nvSpPr>
          <p:spPr>
            <a:xfrm>
              <a:off x="463680" y="5873400"/>
              <a:ext cx="5769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ostulate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: Documents that are “close together” 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 the vector space talk about the same things.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uclidean distance sensible to vector length !!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153" name="AutoShape 6"/>
          <p:cNvCxnSpPr/>
          <p:nvPr/>
        </p:nvCxnSpPr>
        <p:spPr>
          <a:xfrm>
            <a:off x="2602080" y="3809520"/>
            <a:ext cx="2667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7"/>
          <p:cNvCxnSpPr/>
          <p:nvPr/>
        </p:nvCxnSpPr>
        <p:spPr>
          <a:xfrm flipV="1">
            <a:off x="2601720" y="1904400"/>
            <a:ext cx="1080" cy="190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8"/>
          <p:cNvCxnSpPr/>
          <p:nvPr/>
        </p:nvCxnSpPr>
        <p:spPr>
          <a:xfrm flipH="1">
            <a:off x="848520" y="3809880"/>
            <a:ext cx="175356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9"/>
          <p:cNvCxnSpPr/>
          <p:nvPr/>
        </p:nvCxnSpPr>
        <p:spPr>
          <a:xfrm flipV="1">
            <a:off x="2601720" y="3123360"/>
            <a:ext cx="1905480" cy="686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7" name="AutoShape 10"/>
          <p:cNvCxnSpPr/>
          <p:nvPr/>
        </p:nvCxnSpPr>
        <p:spPr>
          <a:xfrm>
            <a:off x="2601720" y="3809520"/>
            <a:ext cx="1600920" cy="686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8" name="AutoShape 11"/>
          <p:cNvCxnSpPr/>
          <p:nvPr/>
        </p:nvCxnSpPr>
        <p:spPr>
          <a:xfrm flipV="1">
            <a:off x="2602080" y="2285280"/>
            <a:ext cx="915120" cy="15246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9" name="AutoShape 12"/>
          <p:cNvCxnSpPr/>
          <p:nvPr/>
        </p:nvCxnSpPr>
        <p:spPr>
          <a:xfrm flipH="1">
            <a:off x="2068200" y="3809880"/>
            <a:ext cx="534240" cy="10677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0" name="AutoShape 13"/>
          <p:cNvCxnSpPr/>
          <p:nvPr/>
        </p:nvCxnSpPr>
        <p:spPr>
          <a:xfrm flipH="1" flipV="1">
            <a:off x="924840" y="2666160"/>
            <a:ext cx="1677240" cy="11437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1" name="Text Box 14"/>
          <p:cNvSpPr/>
          <p:nvPr/>
        </p:nvSpPr>
        <p:spPr>
          <a:xfrm>
            <a:off x="4725720" y="377208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3516480" y="1981080"/>
            <a:ext cx="46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4437000" y="28954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Text Box 17"/>
          <p:cNvSpPr/>
          <p:nvPr/>
        </p:nvSpPr>
        <p:spPr>
          <a:xfrm>
            <a:off x="474480" y="251460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Text Box 18"/>
          <p:cNvSpPr/>
          <p:nvPr/>
        </p:nvSpPr>
        <p:spPr>
          <a:xfrm>
            <a:off x="1998360" y="487692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Text Box 19"/>
          <p:cNvSpPr/>
          <p:nvPr/>
        </p:nvSpPr>
        <p:spPr>
          <a:xfrm>
            <a:off x="4055760" y="441972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7" name="Text Box 20"/>
          <p:cNvSpPr/>
          <p:nvPr/>
        </p:nvSpPr>
        <p:spPr>
          <a:xfrm>
            <a:off x="2150640" y="182880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Text Box 21"/>
          <p:cNvSpPr/>
          <p:nvPr/>
        </p:nvSpPr>
        <p:spPr>
          <a:xfrm>
            <a:off x="474120" y="457200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Freeform 22"/>
          <p:cNvSpPr/>
          <p:nvPr/>
        </p:nvSpPr>
        <p:spPr>
          <a:xfrm>
            <a:off x="2144880" y="3657600"/>
            <a:ext cx="304560" cy="546120"/>
          </a:xfrm>
          <a:custGeom>
            <a:avLst/>
            <a:gdLst>
              <a:gd name="textAreaLeft" fmla="*/ 0 w 304560"/>
              <a:gd name="textAreaRight" fmla="*/ 304920 w 30456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192" h="344">
                <a:moveTo>
                  <a:pt x="144" y="0"/>
                </a:moveTo>
                <a:cubicBezTo>
                  <a:pt x="108" y="12"/>
                  <a:pt x="72" y="24"/>
                  <a:pt x="48" y="48"/>
                </a:cubicBezTo>
                <a:cubicBezTo>
                  <a:pt x="24" y="72"/>
                  <a:pt x="0" y="104"/>
                  <a:pt x="0" y="144"/>
                </a:cubicBezTo>
                <a:cubicBezTo>
                  <a:pt x="0" y="184"/>
                  <a:pt x="16" y="256"/>
                  <a:pt x="48" y="288"/>
                </a:cubicBezTo>
                <a:cubicBezTo>
                  <a:pt x="80" y="320"/>
                  <a:pt x="176" y="344"/>
                  <a:pt x="192" y="336"/>
                </a:cubicBezTo>
              </a:path>
            </a:pathLst>
          </a:custGeom>
          <a:noFill/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Text Box 23"/>
          <p:cNvSpPr/>
          <p:nvPr/>
        </p:nvSpPr>
        <p:spPr>
          <a:xfrm>
            <a:off x="1778040" y="3573360"/>
            <a:ext cx="4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Rectangle 24"/>
          <p:cNvSpPr/>
          <p:nvPr/>
        </p:nvSpPr>
        <p:spPr>
          <a:xfrm>
            <a:off x="4300560" y="1844280"/>
            <a:ext cx="4704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s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= v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 / ||v|| * ||w||</a:t>
            </a:r>
            <a:endParaRPr b="1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AutoShape 25"/>
          <p:cNvSpPr/>
          <p:nvPr/>
        </p:nvSpPr>
        <p:spPr>
          <a:xfrm>
            <a:off x="3321000" y="5231160"/>
            <a:ext cx="5715000" cy="509400"/>
          </a:xfrm>
          <a:prstGeom prst="roundRect">
            <a:avLst>
              <a:gd name="adj" fmla="val 16667"/>
            </a:avLst>
          </a:prstGeom>
          <a:solidFill>
            <a:srgbClr val="00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he user query is a very short doc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AutoShape 26"/>
          <p:cNvSpPr/>
          <p:nvPr/>
        </p:nvSpPr>
        <p:spPr>
          <a:xfrm>
            <a:off x="5235480" y="316440"/>
            <a:ext cx="3498840" cy="775080"/>
          </a:xfrm>
          <a:prstGeom prst="horizontalScroll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Lucida Sans"/>
              </a:rPr>
              <a:t>Easy to Spam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AutoShape 27"/>
          <p:cNvSpPr/>
          <p:nvPr/>
        </p:nvSpPr>
        <p:spPr>
          <a:xfrm>
            <a:off x="5796000" y="2565360"/>
            <a:ext cx="3024000" cy="2087640"/>
          </a:xfrm>
          <a:prstGeom prst="horizontalScroll">
            <a:avLst>
              <a:gd name="adj" fmla="val 125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Sophisticated algos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to find top-k docs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for a query Q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sine(query,document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Content Placeholder 3"/>
              <p:cNvSpPr txBox="1"/>
              <p:nvPr/>
            </p:nvSpPr>
            <p:spPr>
              <a:xfrm>
                <a:off x="1073160" y="2317680"/>
                <a:ext cx="709596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⋅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Line Callout 1 4"/>
          <p:cNvSpPr/>
          <p:nvPr/>
        </p:nvSpPr>
        <p:spPr>
          <a:xfrm>
            <a:off x="1739160" y="1707840"/>
            <a:ext cx="1706400" cy="398880"/>
          </a:xfrm>
          <a:prstGeom prst="borderCallout1">
            <a:avLst>
              <a:gd name="adj1" fmla="val 18750"/>
              <a:gd name="adj2" fmla="val -8333"/>
              <a:gd name="adj3" fmla="val 228402"/>
              <a:gd name="adj4" fmla="val 789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Lucida Sans"/>
              </a:rPr>
              <a:t>Dot product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TextBox 10"/>
          <p:cNvSpPr/>
          <p:nvPr/>
        </p:nvSpPr>
        <p:spPr>
          <a:xfrm>
            <a:off x="304920" y="4343400"/>
            <a:ext cx="86104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q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s the tf-idf weight of term </a:t>
            </a: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n the query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d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s the tf-idf weight of term </a:t>
            </a: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n the document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s(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,d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) is the cosine similarity of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… or,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quivalently, the cosine of the angle between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TextBox 14"/>
          <p:cNvSpPr/>
          <p:nvPr/>
        </p:nvSpPr>
        <p:spPr>
          <a:xfrm>
            <a:off x="7645680" y="-33120"/>
            <a:ext cx="91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6.3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s for length-normalized vector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For length-normalized vectors, cosine similarity is simply the dot product (or scalar product)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for q, d length-normalized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BB7C-A7C7-4B02-B06E-5ACF9AE6C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Content Placeholder 3"/>
              <p:cNvSpPr txBox="1"/>
              <p:nvPr/>
            </p:nvSpPr>
            <p:spPr>
              <a:xfrm>
                <a:off x="1363680" y="3124080"/>
                <a:ext cx="548316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272880"/>
            <a:ext cx="86104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sine similarity amongst 3 documen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505320" y="1700280"/>
          <a:ext cx="5410080" cy="243684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352520"/>
                <a:gridCol w="135252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ec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alou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ssi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utheri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3368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How similar ar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he novel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Lucida Sans"/>
                <a:ea typeface="ＭＳ Ｐゴシック"/>
              </a:rPr>
              <a:t>Sa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ense an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ensibilit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Lucida Sans"/>
                <a:ea typeface="ＭＳ Ｐゴシック"/>
              </a:rPr>
              <a:t>PaP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Pride an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Prejudice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, an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Lucida Sans"/>
                <a:ea typeface="ＭＳ Ｐゴシック"/>
              </a:rPr>
              <a:t>WH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Wuthering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Height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TextBox 7"/>
          <p:cNvSpPr/>
          <p:nvPr/>
        </p:nvSpPr>
        <p:spPr>
          <a:xfrm>
            <a:off x="3849480" y="4076640"/>
            <a:ext cx="482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Lucida Sans"/>
              </a:rPr>
              <a:t>Term frequencies (counts)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7645680" y="-33120"/>
            <a:ext cx="91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6.3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TextBox 7"/>
          <p:cNvSpPr/>
          <p:nvPr/>
        </p:nvSpPr>
        <p:spPr>
          <a:xfrm>
            <a:off x="963360" y="6172200"/>
            <a:ext cx="74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57e69"/>
                </a:solidFill>
                <a:latin typeface="Lucida Sans"/>
              </a:rPr>
              <a:t>Note: To simplify this example, we don’t do idf weighting.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2"/>
              <p:cNvSpPr txBox="1"/>
              <p:nvPr/>
            </p:nvSpPr>
            <p:spPr>
              <a:xfrm>
                <a:off x="3094200" y="5084640"/>
                <a:ext cx="59418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,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 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lo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t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,d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 t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,d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,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3 documents example contd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780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Log frequency weight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28600" y="2438280"/>
          <a:ext cx="4191120" cy="1857600"/>
        </p:xfrm>
        <a:graphic>
          <a:graphicData uri="http://schemas.openxmlformats.org/drawingml/2006/table">
            <a:tbl>
              <a:tblPr/>
              <a:tblGrid>
                <a:gridCol w="1185840"/>
                <a:gridCol w="909720"/>
                <a:gridCol w="1047600"/>
                <a:gridCol w="10479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ter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S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a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WH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affec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0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7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3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jealou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8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0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gossi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3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7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wutheri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5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4720" y="1699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After length normaliza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645080" y="2438280"/>
          <a:ext cx="4268880" cy="1857600"/>
        </p:xfrm>
        <a:graphic>
          <a:graphicData uri="http://schemas.openxmlformats.org/drawingml/2006/table">
            <a:tbl>
              <a:tblPr/>
              <a:tblGrid>
                <a:gridCol w="1236600"/>
                <a:gridCol w="1011240"/>
                <a:gridCol w="1009800"/>
                <a:gridCol w="10112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ec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alou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1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6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ssi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utheri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8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sp>
        <p:nvSpPr>
          <p:cNvPr id="196" name="TextBox 14"/>
          <p:cNvSpPr/>
          <p:nvPr/>
        </p:nvSpPr>
        <p:spPr>
          <a:xfrm>
            <a:off x="1157400" y="4397400"/>
            <a:ext cx="6511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Sans"/>
              </a:rPr>
              <a:t>cos(SaS,PaP)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≈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0.789 × 0.832 + 0.515 × 0.555 + 0.335 × 0.0 + 0.0 × 0.0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≈ </a:t>
            </a:r>
            <a:r>
              <a:rPr b="1" lang="en-US" sz="2000" spc="-1" strike="noStrike">
                <a:solidFill>
                  <a:srgbClr val="c00000"/>
                </a:solidFill>
                <a:latin typeface="Lucida Sans"/>
              </a:rPr>
              <a:t>0.94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Sans"/>
              </a:rPr>
              <a:t>cos(SaS,WH)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≈ </a:t>
            </a:r>
            <a:r>
              <a:rPr b="1" lang="en-US" sz="2000" spc="-1" strike="noStrike">
                <a:solidFill>
                  <a:srgbClr val="c00000"/>
                </a:solidFill>
                <a:latin typeface="Lucida Sans"/>
              </a:rPr>
              <a:t>0.79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Sans"/>
              </a:rPr>
              <a:t>cos(PaP,WH)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≈ </a:t>
            </a:r>
            <a:r>
              <a:rPr b="1" lang="en-US" sz="2000" spc="-1" strike="noStrike">
                <a:solidFill>
                  <a:srgbClr val="c00000"/>
                </a:solidFill>
                <a:latin typeface="Lucida Sans"/>
              </a:rPr>
              <a:t>0.69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TextBox 15"/>
          <p:cNvSpPr/>
          <p:nvPr/>
        </p:nvSpPr>
        <p:spPr>
          <a:xfrm>
            <a:off x="1948320" y="6324480"/>
            <a:ext cx="58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254"/>
                </a:solidFill>
                <a:latin typeface="Lucida Sans"/>
              </a:rPr>
              <a:t>Why do we have cos(SaS,PaP) &gt; cos(SAS,WH)?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TextBox 8"/>
          <p:cNvSpPr/>
          <p:nvPr/>
        </p:nvSpPr>
        <p:spPr>
          <a:xfrm>
            <a:off x="7645680" y="-33120"/>
            <a:ext cx="91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6.3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Vector spaces and other operator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Vector space OK for bag-of-words queri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lean metaphor for similar-document queri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ot a good combination with operators: Boolean, wild-card, positional, proximit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684360" y="4716720"/>
            <a:ext cx="79200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0000"/>
                </a:solidFill>
                <a:latin typeface="Lucida Sans"/>
              </a:rPr>
              <a:t>First generation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 of search engines</a:t>
            </a:r>
            <a:endParaRPr b="1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Invented before “spamming” web search</a:t>
            </a:r>
            <a:endParaRPr b="1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lgoritmi per IR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Top-k retrieva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peed-up top-k retrieva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stly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is the computation of the co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Find a set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of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ntender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, wi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K &lt; |A| &lt;&lt; 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oes not necessarily contain the top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K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but has many docs from among the top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Return the top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ocs in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ccording to the sco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he same approach is also used for other (non-cosine) scoring functio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Will look at several schemes following this approac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7658280" y="-3312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7.1.1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ndex elimina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nsider docs containing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t least one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query term. Hence this means…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ake this further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Only consider high-idf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Only consider docs containing many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7658280" y="-3312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High-idf query terms onl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For a query such as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atcher in the ry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Only accumulate scores from </a:t>
            </a:r>
            <a:r>
              <a:rPr b="0" i="1" lang="en-US" sz="24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catcher 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and </a:t>
            </a:r>
            <a:r>
              <a:rPr b="0" i="1" lang="en-US" sz="24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ry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ntuit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n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nd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ntribute little to the scores and s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  <a:ea typeface="ＭＳ Ｐゴシック"/>
              </a:rPr>
              <a:t>don’t alter rank-ordering muc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Benefi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Postings of low-idf terms have many doc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these (many) docs get eliminated from set </a:t>
            </a:r>
            <a:r>
              <a:rPr b="0" i="1" lang="en-US" sz="24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A 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of contend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2" name="TextBox 4"/>
          <p:cNvSpPr/>
          <p:nvPr/>
        </p:nvSpPr>
        <p:spPr>
          <a:xfrm>
            <a:off x="7658280" y="-3312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The big fight: find the best </a:t>
            </a:r>
            <a:r>
              <a:rPr b="0" i="1" lang="it-IT" sz="3600" spc="-1" strike="noStrike">
                <a:solidFill>
                  <a:srgbClr val="000000"/>
                </a:solidFill>
                <a:latin typeface="Tahoma"/>
              </a:rPr>
              <a:t>ranking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3" name="Picture 3" descr="Picture2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3348000" y="2421000"/>
            <a:ext cx="2519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ocs containing many query term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For multi-term queries, compute scores for docs containing several of the query term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ay, at least 3 out of 4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mposes a “soft conjunction” on queries seen on web search engines (early Googl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Easy to implement in postings traversa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7658280" y="-3312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3 of 4 query ter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480240" y="2733840"/>
            <a:ext cx="977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Brutus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520560" y="3267000"/>
            <a:ext cx="1006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esar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577800" y="3800520"/>
            <a:ext cx="1355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lpurnia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2057400" y="28098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AutoShape 8"/>
          <p:cNvSpPr/>
          <p:nvPr/>
        </p:nvSpPr>
        <p:spPr>
          <a:xfrm>
            <a:off x="2057400" y="33433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22" name="Group 26"/>
          <p:cNvGrpSpPr/>
          <p:nvPr/>
        </p:nvGrpSpPr>
        <p:grpSpPr>
          <a:xfrm>
            <a:off x="3276720" y="3876840"/>
            <a:ext cx="4876560" cy="304560"/>
            <a:chOff x="3276720" y="3876840"/>
            <a:chExt cx="4876560" cy="304560"/>
          </a:xfrm>
        </p:grpSpPr>
        <p:sp>
          <p:nvSpPr>
            <p:cNvPr id="223" name="Rectangle 27"/>
            <p:cNvSpPr/>
            <p:nvPr/>
          </p:nvSpPr>
          <p:spPr>
            <a:xfrm>
              <a:off x="3276720" y="3876840"/>
              <a:ext cx="487656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4" name="Rectangle 28"/>
            <p:cNvSpPr/>
            <p:nvPr/>
          </p:nvSpPr>
          <p:spPr>
            <a:xfrm>
              <a:off x="3886200" y="3876840"/>
              <a:ext cx="3657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5" name="Rectangle 29"/>
            <p:cNvSpPr/>
            <p:nvPr/>
          </p:nvSpPr>
          <p:spPr>
            <a:xfrm>
              <a:off x="4495680" y="3876840"/>
              <a:ext cx="24386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6" name="Rectangle 30"/>
            <p:cNvSpPr/>
            <p:nvPr/>
          </p:nvSpPr>
          <p:spPr>
            <a:xfrm>
              <a:off x="5105520" y="3876840"/>
              <a:ext cx="12189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7" name="Line 31"/>
            <p:cNvSpPr/>
            <p:nvPr/>
          </p:nvSpPr>
          <p:spPr>
            <a:xfrm>
              <a:off x="5715000" y="38768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28" name="Group 51"/>
          <p:cNvGrpSpPr/>
          <p:nvPr/>
        </p:nvGrpSpPr>
        <p:grpSpPr>
          <a:xfrm>
            <a:off x="3276720" y="3267000"/>
            <a:ext cx="4917960" cy="398880"/>
            <a:chOff x="3276720" y="3267000"/>
            <a:chExt cx="4917960" cy="398880"/>
          </a:xfrm>
        </p:grpSpPr>
        <p:grpSp>
          <p:nvGrpSpPr>
            <p:cNvPr id="229" name="Group 20"/>
            <p:cNvGrpSpPr/>
            <p:nvPr/>
          </p:nvGrpSpPr>
          <p:grpSpPr>
            <a:xfrm>
              <a:off x="3276720" y="3343320"/>
              <a:ext cx="4876560" cy="304920"/>
              <a:chOff x="3276720" y="3343320"/>
              <a:chExt cx="4876560" cy="304920"/>
            </a:xfrm>
          </p:grpSpPr>
          <p:sp>
            <p:nvSpPr>
              <p:cNvPr id="230" name="Rectangle 21"/>
              <p:cNvSpPr/>
              <p:nvPr/>
            </p:nvSpPr>
            <p:spPr>
              <a:xfrm>
                <a:off x="3276720" y="334332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1" name="Rectangle 22"/>
              <p:cNvSpPr/>
              <p:nvPr/>
            </p:nvSpPr>
            <p:spPr>
              <a:xfrm>
                <a:off x="3886200" y="334332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2" name="Rectangle 23"/>
              <p:cNvSpPr/>
              <p:nvPr/>
            </p:nvSpPr>
            <p:spPr>
              <a:xfrm>
                <a:off x="4495680" y="334332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3" name="Rectangle 24"/>
              <p:cNvSpPr/>
              <p:nvPr/>
            </p:nvSpPr>
            <p:spPr>
              <a:xfrm>
                <a:off x="5105520" y="334332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4" name="Line 25"/>
              <p:cNvSpPr/>
              <p:nvPr/>
            </p:nvSpPr>
            <p:spPr>
              <a:xfrm>
                <a:off x="5715000" y="3343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35" name="Text Box 32"/>
            <p:cNvSpPr/>
            <p:nvPr/>
          </p:nvSpPr>
          <p:spPr>
            <a:xfrm>
              <a:off x="3426480" y="326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6" name="Text Box 33"/>
            <p:cNvSpPr/>
            <p:nvPr/>
          </p:nvSpPr>
          <p:spPr>
            <a:xfrm>
              <a:off x="4112280" y="326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7" name="Text Box 34"/>
            <p:cNvSpPr/>
            <p:nvPr/>
          </p:nvSpPr>
          <p:spPr>
            <a:xfrm>
              <a:off x="4688640" y="326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8" name="Text Box 35"/>
            <p:cNvSpPr/>
            <p:nvPr/>
          </p:nvSpPr>
          <p:spPr>
            <a:xfrm>
              <a:off x="5271120" y="326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9" name="Text Box 36"/>
            <p:cNvSpPr/>
            <p:nvPr/>
          </p:nvSpPr>
          <p:spPr>
            <a:xfrm>
              <a:off x="5831640" y="326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0" name="Text Box 37"/>
            <p:cNvSpPr/>
            <p:nvPr/>
          </p:nvSpPr>
          <p:spPr>
            <a:xfrm>
              <a:off x="6453000" y="32670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13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1" name="Text Box 38"/>
            <p:cNvSpPr/>
            <p:nvPr/>
          </p:nvSpPr>
          <p:spPr>
            <a:xfrm>
              <a:off x="7111800" y="32670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2" name="Text Box 39"/>
            <p:cNvSpPr/>
            <p:nvPr/>
          </p:nvSpPr>
          <p:spPr>
            <a:xfrm>
              <a:off x="7721280" y="32670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34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43" name="Group 52"/>
          <p:cNvGrpSpPr/>
          <p:nvPr/>
        </p:nvGrpSpPr>
        <p:grpSpPr>
          <a:xfrm>
            <a:off x="3276720" y="2733840"/>
            <a:ext cx="4876560" cy="457200"/>
            <a:chOff x="3276720" y="2733840"/>
            <a:chExt cx="4876560" cy="457200"/>
          </a:xfrm>
        </p:grpSpPr>
        <p:grpSp>
          <p:nvGrpSpPr>
            <p:cNvPr id="244" name="Group 19"/>
            <p:cNvGrpSpPr/>
            <p:nvPr/>
          </p:nvGrpSpPr>
          <p:grpSpPr>
            <a:xfrm>
              <a:off x="3276720" y="2810160"/>
              <a:ext cx="4876560" cy="304920"/>
              <a:chOff x="3276720" y="2810160"/>
              <a:chExt cx="4876560" cy="304920"/>
            </a:xfrm>
          </p:grpSpPr>
          <p:sp>
            <p:nvSpPr>
              <p:cNvPr id="245" name="Rectangle 11"/>
              <p:cNvSpPr/>
              <p:nvPr/>
            </p:nvSpPr>
            <p:spPr>
              <a:xfrm>
                <a:off x="3276720" y="281016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6" name="Rectangle 13"/>
              <p:cNvSpPr/>
              <p:nvPr/>
            </p:nvSpPr>
            <p:spPr>
              <a:xfrm>
                <a:off x="3886200" y="281016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7" name="Rectangle 15"/>
              <p:cNvSpPr/>
              <p:nvPr/>
            </p:nvSpPr>
            <p:spPr>
              <a:xfrm>
                <a:off x="4495680" y="281016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8" name="Rectangle 16"/>
              <p:cNvSpPr/>
              <p:nvPr/>
            </p:nvSpPr>
            <p:spPr>
              <a:xfrm>
                <a:off x="5105520" y="281016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9" name="Line 18"/>
              <p:cNvSpPr/>
              <p:nvPr/>
            </p:nvSpPr>
            <p:spPr>
              <a:xfrm>
                <a:off x="5715000" y="28101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50" name="Text Box 40"/>
            <p:cNvSpPr/>
            <p:nvPr/>
          </p:nvSpPr>
          <p:spPr>
            <a:xfrm>
              <a:off x="3442320" y="2733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1" name="Text Box 41"/>
            <p:cNvSpPr/>
            <p:nvPr/>
          </p:nvSpPr>
          <p:spPr>
            <a:xfrm>
              <a:off x="4002840" y="2733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2" name="Text Box 42"/>
            <p:cNvSpPr/>
            <p:nvPr/>
          </p:nvSpPr>
          <p:spPr>
            <a:xfrm>
              <a:off x="4661640" y="2733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3" name="Text Box 43"/>
            <p:cNvSpPr/>
            <p:nvPr/>
          </p:nvSpPr>
          <p:spPr>
            <a:xfrm>
              <a:off x="5206680" y="273384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16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4" name="Text Box 44"/>
            <p:cNvSpPr/>
            <p:nvPr/>
          </p:nvSpPr>
          <p:spPr>
            <a:xfrm>
              <a:off x="5843520" y="273384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32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5" name="Text Box 45"/>
            <p:cNvSpPr/>
            <p:nvPr/>
          </p:nvSpPr>
          <p:spPr>
            <a:xfrm>
              <a:off x="6453000" y="273384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64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6" name="Text Box 46"/>
            <p:cNvSpPr/>
            <p:nvPr/>
          </p:nvSpPr>
          <p:spPr>
            <a:xfrm>
              <a:off x="6895080" y="273384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128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7" name="Text Box 47"/>
            <p:cNvSpPr/>
            <p:nvPr/>
          </p:nvSpPr>
          <p:spPr>
            <a:xfrm>
              <a:off x="7535880" y="27338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58" name="Text Box 48"/>
          <p:cNvSpPr/>
          <p:nvPr/>
        </p:nvSpPr>
        <p:spPr>
          <a:xfrm>
            <a:off x="3301920" y="38005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13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AutoShape 49"/>
          <p:cNvSpPr/>
          <p:nvPr/>
        </p:nvSpPr>
        <p:spPr>
          <a:xfrm>
            <a:off x="2057400" y="387684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0" name="Text Box 50"/>
          <p:cNvSpPr/>
          <p:nvPr/>
        </p:nvSpPr>
        <p:spPr>
          <a:xfrm>
            <a:off x="3920760" y="38005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16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518400" y="2133720"/>
            <a:ext cx="10342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ntony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2057400" y="22096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63" name="Group 52"/>
          <p:cNvGrpSpPr/>
          <p:nvPr/>
        </p:nvGrpSpPr>
        <p:grpSpPr>
          <a:xfrm>
            <a:off x="3276720" y="2133720"/>
            <a:ext cx="4876560" cy="456840"/>
            <a:chOff x="3276720" y="2133720"/>
            <a:chExt cx="4876560" cy="456840"/>
          </a:xfrm>
        </p:grpSpPr>
        <p:grpSp>
          <p:nvGrpSpPr>
            <p:cNvPr id="264" name="Group 19"/>
            <p:cNvGrpSpPr/>
            <p:nvPr/>
          </p:nvGrpSpPr>
          <p:grpSpPr>
            <a:xfrm>
              <a:off x="3276720" y="2209680"/>
              <a:ext cx="4876560" cy="304560"/>
              <a:chOff x="3276720" y="2209680"/>
              <a:chExt cx="4876560" cy="304560"/>
            </a:xfrm>
          </p:grpSpPr>
          <p:sp>
            <p:nvSpPr>
              <p:cNvPr id="265" name="Rectangle 11"/>
              <p:cNvSpPr/>
              <p:nvPr/>
            </p:nvSpPr>
            <p:spPr>
              <a:xfrm>
                <a:off x="3276720" y="2209680"/>
                <a:ext cx="487656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6" name="Rectangle 13"/>
              <p:cNvSpPr/>
              <p:nvPr/>
            </p:nvSpPr>
            <p:spPr>
              <a:xfrm>
                <a:off x="3886200" y="220968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7" name="Rectangle 15"/>
              <p:cNvSpPr/>
              <p:nvPr/>
            </p:nvSpPr>
            <p:spPr>
              <a:xfrm>
                <a:off x="4495680" y="2209680"/>
                <a:ext cx="243864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8" name="Rectangle 16"/>
              <p:cNvSpPr/>
              <p:nvPr/>
            </p:nvSpPr>
            <p:spPr>
              <a:xfrm>
                <a:off x="5105520" y="2209680"/>
                <a:ext cx="121896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9" name="Line 18"/>
              <p:cNvSpPr/>
              <p:nvPr/>
            </p:nvSpPr>
            <p:spPr>
              <a:xfrm>
                <a:off x="5715000" y="2209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70" name="Text Box 40"/>
            <p:cNvSpPr/>
            <p:nvPr/>
          </p:nvSpPr>
          <p:spPr>
            <a:xfrm>
              <a:off x="345528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1" name="Text Box 41"/>
            <p:cNvSpPr/>
            <p:nvPr/>
          </p:nvSpPr>
          <p:spPr>
            <a:xfrm>
              <a:off x="400284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2" name="Text Box 42"/>
            <p:cNvSpPr/>
            <p:nvPr/>
          </p:nvSpPr>
          <p:spPr>
            <a:xfrm>
              <a:off x="466164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3" name="Text Box 43"/>
            <p:cNvSpPr/>
            <p:nvPr/>
          </p:nvSpPr>
          <p:spPr>
            <a:xfrm>
              <a:off x="5206680" y="21337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16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4" name="Text Box 44"/>
            <p:cNvSpPr/>
            <p:nvPr/>
          </p:nvSpPr>
          <p:spPr>
            <a:xfrm>
              <a:off x="5843520" y="21337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32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5" name="Text Box 45"/>
            <p:cNvSpPr/>
            <p:nvPr/>
          </p:nvSpPr>
          <p:spPr>
            <a:xfrm>
              <a:off x="6453000" y="21337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64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6" name="Text Box 46"/>
            <p:cNvSpPr/>
            <p:nvPr/>
          </p:nvSpPr>
          <p:spPr>
            <a:xfrm>
              <a:off x="6895080" y="213372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128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7" name="Text Box 47"/>
            <p:cNvSpPr/>
            <p:nvPr/>
          </p:nvSpPr>
          <p:spPr>
            <a:xfrm>
              <a:off x="7535880" y="213372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78" name="Text Box 50"/>
          <p:cNvSpPr/>
          <p:nvPr/>
        </p:nvSpPr>
        <p:spPr>
          <a:xfrm>
            <a:off x="4582080" y="38098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32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79" name="Group 85"/>
          <p:cNvGrpSpPr/>
          <p:nvPr/>
        </p:nvGrpSpPr>
        <p:grpSpPr>
          <a:xfrm>
            <a:off x="4495680" y="2209680"/>
            <a:ext cx="1828800" cy="1447920"/>
            <a:chOff x="4495680" y="2209680"/>
            <a:chExt cx="1828800" cy="1447920"/>
          </a:xfrm>
        </p:grpSpPr>
        <p:sp>
          <p:nvSpPr>
            <p:cNvPr id="280" name="Rectangle 82"/>
            <p:cNvSpPr/>
            <p:nvPr/>
          </p:nvSpPr>
          <p:spPr>
            <a:xfrm>
              <a:off x="4495680" y="2209680"/>
              <a:ext cx="609480" cy="304560"/>
            </a:xfrm>
            <a:prstGeom prst="rect">
              <a:avLst/>
            </a:prstGeom>
            <a:solidFill>
              <a:srgbClr val="00e4a8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1" name="Rectangle 83"/>
            <p:cNvSpPr/>
            <p:nvPr/>
          </p:nvSpPr>
          <p:spPr>
            <a:xfrm>
              <a:off x="4495680" y="2819160"/>
              <a:ext cx="609480" cy="304560"/>
            </a:xfrm>
            <a:prstGeom prst="rect">
              <a:avLst/>
            </a:prstGeom>
            <a:solidFill>
              <a:srgbClr val="00e4a8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2" name="Rectangle 84"/>
            <p:cNvSpPr/>
            <p:nvPr/>
          </p:nvSpPr>
          <p:spPr>
            <a:xfrm>
              <a:off x="5715000" y="3353040"/>
              <a:ext cx="609480" cy="304560"/>
            </a:xfrm>
            <a:prstGeom prst="rect">
              <a:avLst/>
            </a:prstGeom>
            <a:solidFill>
              <a:srgbClr val="00e4a8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pic>
        <p:nvPicPr>
          <p:cNvPr id="283" name="Group 90" descr=""/>
          <p:cNvPicPr/>
          <p:nvPr/>
        </p:nvPicPr>
        <p:blipFill>
          <a:blip r:embed="rId1"/>
          <a:stretch/>
        </p:blipFill>
        <p:spPr>
          <a:xfrm>
            <a:off x="3876840" y="2200320"/>
            <a:ext cx="1854000" cy="2006640"/>
          </a:xfrm>
          <a:prstGeom prst="rect">
            <a:avLst/>
          </a:prstGeom>
          <a:ln w="0">
            <a:noFill/>
          </a:ln>
        </p:spPr>
      </p:pic>
      <p:pic>
        <p:nvPicPr>
          <p:cNvPr id="284" name="Group 91" descr=""/>
          <p:cNvPicPr/>
          <p:nvPr/>
        </p:nvPicPr>
        <p:blipFill>
          <a:blip r:embed="rId2"/>
          <a:stretch/>
        </p:blipFill>
        <p:spPr>
          <a:xfrm>
            <a:off x="4486320" y="2200320"/>
            <a:ext cx="1854000" cy="2006640"/>
          </a:xfrm>
          <a:prstGeom prst="rect">
            <a:avLst/>
          </a:prstGeom>
          <a:ln w="0">
            <a:noFill/>
          </a:ln>
        </p:spPr>
      </p:pic>
      <p:sp>
        <p:nvSpPr>
          <p:cNvPr id="285" name="TextBox 95"/>
          <p:cNvSpPr/>
          <p:nvPr/>
        </p:nvSpPr>
        <p:spPr>
          <a:xfrm>
            <a:off x="862200" y="5105520"/>
            <a:ext cx="783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Lucida Sans"/>
              </a:rPr>
              <a:t>Scores only computed for docs 8, 16 and 32.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6" name="TextBox 4"/>
          <p:cNvSpPr/>
          <p:nvPr/>
        </p:nvSpPr>
        <p:spPr>
          <a:xfrm>
            <a:off x="7658280" y="-3312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hampion Lis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Lucida Sans"/>
              </a:rPr>
              <a:t>Preproces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ssign to each term, its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best docume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Lucida Sans"/>
              </a:rPr>
              <a:t>Search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If |Q| =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terms, merge their preferred lists 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 mq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nswers)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ute COS between Q and these docs, and choose the top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1614600" y="5732640"/>
            <a:ext cx="6181200" cy="459720"/>
          </a:xfrm>
          <a:prstGeom prst="rect">
            <a:avLst/>
          </a:prstGeom>
          <a:solidFill>
            <a:srgbClr val="00e4a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eed to pick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&gt;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work well empirically.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337400" y="6359400"/>
            <a:ext cx="7061400" cy="45972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ow SE use tf-idf  PLUS PageRank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(PLUS other weights)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291" name="Object 6"/>
          <p:cNvGraphicFramePr/>
          <p:nvPr/>
        </p:nvGraphicFramePr>
        <p:xfrm>
          <a:off x="1547640" y="2421000"/>
          <a:ext cx="6624720" cy="212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421000"/>
                    <a:ext cx="662472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mplex scor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nsider a simple total score combining cosine relevance and authority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net-score(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q,d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) =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PR(d) +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cosine(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q,d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an use some other linear combination than an equal weight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Now we seek the top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K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 docs by </a:t>
            </a:r>
            <a:r>
              <a:rPr b="0" lang="en-US" sz="2600" spc="-1" strike="noStrike" u="sng">
                <a:solidFill>
                  <a:srgbClr val="c00000"/>
                </a:solidFill>
                <a:uFillTx/>
                <a:latin typeface="Lucida Sans"/>
                <a:ea typeface="ＭＳ Ｐゴシック"/>
              </a:rPr>
              <a:t>net scor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5" name="TextBox 4"/>
          <p:cNvSpPr/>
          <p:nvPr/>
        </p:nvSpPr>
        <p:spPr>
          <a:xfrm>
            <a:off x="7658280" y="-3312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7.1.4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dvanced: </a:t>
            </a:r>
            <a:r>
              <a:rPr b="0" i="1" lang="en-US" sz="3600" spc="-1" strike="noStrike">
                <a:solidFill>
                  <a:srgbClr val="000000"/>
                </a:solidFill>
                <a:latin typeface="Lucida Sans"/>
              </a:rPr>
              <a:t>Fancy-hits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 heuristic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835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Lucida Sans"/>
              </a:rPr>
              <a:t>Preproces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Assign docID by decreasing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PR weigh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Define FH(t)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docs for t with highest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f-idf weigh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Define IL(t) = the rest (i.e. incr docID = decr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 weight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a000"/>
                </a:solidFill>
                <a:uFillTx/>
                <a:latin typeface="Comic Sans MS"/>
              </a:rPr>
              <a:t>Idea</a:t>
            </a:r>
            <a:r>
              <a:rPr b="0" lang="en-US" sz="1800" spc="-1" strike="noStrike">
                <a:solidFill>
                  <a:srgbClr val="00a000"/>
                </a:solidFill>
                <a:latin typeface="Comic Sans MS"/>
              </a:rPr>
              <a:t>: a document that scores high should be in FH or in the front of I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29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Lucida Sans"/>
              </a:rPr>
              <a:t>Search for a t-term quer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First FH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Take the </a:t>
            </a: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common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docs of their F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ute the score of these docs and keep the top-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doc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Then IL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scan ILs and check the common doc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ute the score and possibly insert them into the top-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.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top when 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docs have been checked or the PR score becomes smaller than some threshold.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lgoritmi per IR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Speed-up querying by cluster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宋体"/>
              </a:rPr>
              <a:t>Visualiza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1" name="Oval 15"/>
          <p:cNvSpPr/>
          <p:nvPr/>
        </p:nvSpPr>
        <p:spPr>
          <a:xfrm>
            <a:off x="2011320" y="3173400"/>
            <a:ext cx="212760" cy="2509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2" name="Oval 16"/>
          <p:cNvSpPr/>
          <p:nvPr/>
        </p:nvSpPr>
        <p:spPr>
          <a:xfrm>
            <a:off x="1806480" y="268452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Oval 17"/>
          <p:cNvSpPr/>
          <p:nvPr/>
        </p:nvSpPr>
        <p:spPr>
          <a:xfrm>
            <a:off x="2422440" y="3009960"/>
            <a:ext cx="212760" cy="2523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Oval 18"/>
          <p:cNvSpPr/>
          <p:nvPr/>
        </p:nvSpPr>
        <p:spPr>
          <a:xfrm>
            <a:off x="2422440" y="341640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5" name="Oval 19"/>
          <p:cNvSpPr/>
          <p:nvPr/>
        </p:nvSpPr>
        <p:spPr>
          <a:xfrm>
            <a:off x="1806480" y="38228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6" name="Oval 20"/>
          <p:cNvSpPr/>
          <p:nvPr/>
        </p:nvSpPr>
        <p:spPr>
          <a:xfrm>
            <a:off x="6743880" y="5367240"/>
            <a:ext cx="212400" cy="2523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7" name="Oval 21"/>
          <p:cNvSpPr/>
          <p:nvPr/>
        </p:nvSpPr>
        <p:spPr>
          <a:xfrm>
            <a:off x="5715000" y="1954080"/>
            <a:ext cx="212760" cy="2509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8" name="Oval 22"/>
          <p:cNvSpPr/>
          <p:nvPr/>
        </p:nvSpPr>
        <p:spPr>
          <a:xfrm>
            <a:off x="5867280" y="22622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9" name="Oval 24"/>
          <p:cNvSpPr/>
          <p:nvPr/>
        </p:nvSpPr>
        <p:spPr>
          <a:xfrm>
            <a:off x="6950160" y="512280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0" name="Oval 25"/>
          <p:cNvSpPr/>
          <p:nvPr/>
        </p:nvSpPr>
        <p:spPr>
          <a:xfrm>
            <a:off x="6743880" y="5854680"/>
            <a:ext cx="21240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1" name="Oval 26"/>
          <p:cNvSpPr/>
          <p:nvPr/>
        </p:nvSpPr>
        <p:spPr>
          <a:xfrm>
            <a:off x="7155000" y="55292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2" name="Oval 27"/>
          <p:cNvSpPr/>
          <p:nvPr/>
        </p:nvSpPr>
        <p:spPr>
          <a:xfrm>
            <a:off x="7155000" y="585468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Oval 28"/>
          <p:cNvSpPr/>
          <p:nvPr/>
        </p:nvSpPr>
        <p:spPr>
          <a:xfrm>
            <a:off x="6469200" y="2360520"/>
            <a:ext cx="212760" cy="2509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4" name="Oval 29"/>
          <p:cNvSpPr/>
          <p:nvPr/>
        </p:nvSpPr>
        <p:spPr>
          <a:xfrm>
            <a:off x="6743880" y="2197080"/>
            <a:ext cx="21240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5" name="Oval 30"/>
          <p:cNvSpPr/>
          <p:nvPr/>
        </p:nvSpPr>
        <p:spPr>
          <a:xfrm>
            <a:off x="2217600" y="4879800"/>
            <a:ext cx="212760" cy="25272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6" name="Oval 31"/>
          <p:cNvSpPr/>
          <p:nvPr/>
        </p:nvSpPr>
        <p:spPr>
          <a:xfrm>
            <a:off x="4275000" y="4392720"/>
            <a:ext cx="212760" cy="2505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7" name="Oval 32"/>
          <p:cNvSpPr/>
          <p:nvPr/>
        </p:nvSpPr>
        <p:spPr>
          <a:xfrm>
            <a:off x="2629080" y="5122800"/>
            <a:ext cx="21240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8" name="Oval 33"/>
          <p:cNvSpPr/>
          <p:nvPr/>
        </p:nvSpPr>
        <p:spPr>
          <a:xfrm>
            <a:off x="2629080" y="4879800"/>
            <a:ext cx="21240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Oval 34"/>
          <p:cNvSpPr/>
          <p:nvPr/>
        </p:nvSpPr>
        <p:spPr>
          <a:xfrm>
            <a:off x="1806480" y="512280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Oval 35"/>
          <p:cNvSpPr/>
          <p:nvPr/>
        </p:nvSpPr>
        <p:spPr>
          <a:xfrm>
            <a:off x="2149560" y="53672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1" name="Oval 36"/>
          <p:cNvSpPr/>
          <p:nvPr/>
        </p:nvSpPr>
        <p:spPr>
          <a:xfrm>
            <a:off x="4479840" y="414828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Oval 37"/>
          <p:cNvSpPr/>
          <p:nvPr/>
        </p:nvSpPr>
        <p:spPr>
          <a:xfrm>
            <a:off x="4686480" y="4554360"/>
            <a:ext cx="21240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3" name="Oval 38"/>
          <p:cNvSpPr/>
          <p:nvPr/>
        </p:nvSpPr>
        <p:spPr>
          <a:xfrm>
            <a:off x="4479840" y="4879800"/>
            <a:ext cx="21276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4" name="Oval 39"/>
          <p:cNvSpPr/>
          <p:nvPr/>
        </p:nvSpPr>
        <p:spPr>
          <a:xfrm>
            <a:off x="4068720" y="4635360"/>
            <a:ext cx="21276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Rectangle 40"/>
          <p:cNvSpPr/>
          <p:nvPr/>
        </p:nvSpPr>
        <p:spPr>
          <a:xfrm>
            <a:off x="5921280" y="3173400"/>
            <a:ext cx="2127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Oval 41"/>
          <p:cNvSpPr/>
          <p:nvPr/>
        </p:nvSpPr>
        <p:spPr>
          <a:xfrm>
            <a:off x="5715000" y="3173400"/>
            <a:ext cx="212760" cy="250920"/>
          </a:xfrm>
          <a:prstGeom prst="ellipse">
            <a:avLst/>
          </a:prstGeom>
          <a:solidFill>
            <a:srgbClr val="339966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Oval 42"/>
          <p:cNvSpPr/>
          <p:nvPr/>
        </p:nvSpPr>
        <p:spPr>
          <a:xfrm>
            <a:off x="1600200" y="6342120"/>
            <a:ext cx="212760" cy="2523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Oval 43"/>
          <p:cNvSpPr/>
          <p:nvPr/>
        </p:nvSpPr>
        <p:spPr>
          <a:xfrm>
            <a:off x="4892760" y="634212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5903280" y="32004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uery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30" name="AutoShape 5"/>
          <p:cNvCxnSpPr>
            <a:stCxn id="329" idx="1"/>
            <a:endCxn id="329" idx="1"/>
          </p:cNvCxnSpPr>
          <p:nvPr/>
        </p:nvCxnSpPr>
        <p:spPr>
          <a:xfrm>
            <a:off x="5866920" y="3428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1" name="Text Box 11"/>
          <p:cNvSpPr/>
          <p:nvPr/>
        </p:nvSpPr>
        <p:spPr>
          <a:xfrm>
            <a:off x="1787760" y="624852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ader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5100120" y="624852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ollower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3" name="Oval 13"/>
          <p:cNvSpPr/>
          <p:nvPr/>
        </p:nvSpPr>
        <p:spPr>
          <a:xfrm>
            <a:off x="6248520" y="2286000"/>
            <a:ext cx="7596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34" name="AutoShape 45"/>
          <p:cNvCxnSpPr>
            <a:stCxn id="333" idx="5"/>
            <a:endCxn id="313" idx="1"/>
          </p:cNvCxnSpPr>
          <p:nvPr/>
        </p:nvCxnSpPr>
        <p:spPr>
          <a:xfrm>
            <a:off x="6312960" y="2350800"/>
            <a:ext cx="188280" cy="3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" name="AutoShape 46"/>
          <p:cNvCxnSpPr>
            <a:stCxn id="333" idx="6"/>
            <a:endCxn id="314" idx="2"/>
          </p:cNvCxnSpPr>
          <p:nvPr/>
        </p:nvCxnSpPr>
        <p:spPr>
          <a:xfrm>
            <a:off x="6324480" y="2323800"/>
            <a:ext cx="410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6" name="AutoShape 48"/>
          <p:cNvCxnSpPr>
            <a:stCxn id="333" idx="0"/>
          </p:cNvCxnSpPr>
          <p:nvPr/>
        </p:nvCxnSpPr>
        <p:spPr>
          <a:xfrm>
            <a:off x="6286680" y="228600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7" name="AutoShape 50"/>
          <p:cNvCxnSpPr>
            <a:stCxn id="333" idx="7"/>
          </p:cNvCxnSpPr>
          <p:nvPr/>
        </p:nvCxnSpPr>
        <p:spPr>
          <a:xfrm flipH="1" flipV="1">
            <a:off x="6232320" y="2012760"/>
            <a:ext cx="81360" cy="28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8" name="AutoShape 51"/>
          <p:cNvCxnSpPr>
            <a:stCxn id="333" idx="1"/>
            <a:endCxn id="307" idx="6"/>
          </p:cNvCxnSpPr>
          <p:nvPr/>
        </p:nvCxnSpPr>
        <p:spPr>
          <a:xfrm flipH="1" flipV="1">
            <a:off x="5937120" y="2079360"/>
            <a:ext cx="32292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9" name="AutoShape 52"/>
          <p:cNvCxnSpPr>
            <a:stCxn id="333" idx="1"/>
            <a:endCxn id="308" idx="6"/>
          </p:cNvCxnSpPr>
          <p:nvPr/>
        </p:nvCxnSpPr>
        <p:spPr>
          <a:xfrm flipH="1">
            <a:off x="6089400" y="2297160"/>
            <a:ext cx="17064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" name="AutoShape 53"/>
          <p:cNvCxnSpPr>
            <a:stCxn id="326" idx="0"/>
            <a:endCxn id="333" idx="3"/>
          </p:cNvCxnSpPr>
          <p:nvPr/>
        </p:nvCxnSpPr>
        <p:spPr>
          <a:xfrm flipV="1">
            <a:off x="5821200" y="2350800"/>
            <a:ext cx="439200" cy="8136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341" name="Freeform 54"/>
          <p:cNvSpPr/>
          <p:nvPr/>
        </p:nvSpPr>
        <p:spPr>
          <a:xfrm>
            <a:off x="5062680" y="1582560"/>
            <a:ext cx="2787480" cy="1486080"/>
          </a:xfrm>
          <a:custGeom>
            <a:avLst/>
            <a:gdLst>
              <a:gd name="textAreaLeft" fmla="*/ 0 w 2787480"/>
              <a:gd name="textAreaRight" fmla="*/ 2787840 w 2787480"/>
              <a:gd name="textAreaTop" fmla="*/ 0 h 1486080"/>
              <a:gd name="textAreaBottom" fmla="*/ 1486440 h 1486080"/>
            </a:gdLst>
            <a:ahLst/>
            <a:rect l="textAreaLeft" t="textAreaTop" r="textAreaRight" b="textAreaBottom"/>
            <a:pathLst>
              <a:path w="1756" h="936">
                <a:moveTo>
                  <a:pt x="52" y="267"/>
                </a:moveTo>
                <a:cubicBezTo>
                  <a:pt x="131" y="371"/>
                  <a:pt x="0" y="200"/>
                  <a:pt x="129" y="361"/>
                </a:cubicBezTo>
                <a:cubicBezTo>
                  <a:pt x="185" y="430"/>
                  <a:pt x="219" y="505"/>
                  <a:pt x="293" y="559"/>
                </a:cubicBezTo>
                <a:cubicBezTo>
                  <a:pt x="341" y="594"/>
                  <a:pt x="412" y="601"/>
                  <a:pt x="465" y="628"/>
                </a:cubicBezTo>
                <a:cubicBezTo>
                  <a:pt x="502" y="647"/>
                  <a:pt x="538" y="671"/>
                  <a:pt x="576" y="688"/>
                </a:cubicBezTo>
                <a:cubicBezTo>
                  <a:pt x="629" y="712"/>
                  <a:pt x="687" y="731"/>
                  <a:pt x="740" y="757"/>
                </a:cubicBezTo>
                <a:cubicBezTo>
                  <a:pt x="853" y="814"/>
                  <a:pt x="965" y="884"/>
                  <a:pt x="1092" y="903"/>
                </a:cubicBezTo>
                <a:cubicBezTo>
                  <a:pt x="1188" y="936"/>
                  <a:pt x="1281" y="916"/>
                  <a:pt x="1385" y="912"/>
                </a:cubicBezTo>
                <a:cubicBezTo>
                  <a:pt x="1453" y="906"/>
                  <a:pt x="1508" y="896"/>
                  <a:pt x="1574" y="886"/>
                </a:cubicBezTo>
                <a:cubicBezTo>
                  <a:pt x="1616" y="862"/>
                  <a:pt x="1653" y="850"/>
                  <a:pt x="1686" y="817"/>
                </a:cubicBezTo>
                <a:cubicBezTo>
                  <a:pt x="1697" y="783"/>
                  <a:pt x="1737" y="722"/>
                  <a:pt x="1737" y="722"/>
                </a:cubicBezTo>
                <a:cubicBezTo>
                  <a:pt x="1742" y="702"/>
                  <a:pt x="1756" y="683"/>
                  <a:pt x="1754" y="662"/>
                </a:cubicBezTo>
                <a:cubicBezTo>
                  <a:pt x="1745" y="584"/>
                  <a:pt x="1701" y="519"/>
                  <a:pt x="1677" y="447"/>
                </a:cubicBezTo>
                <a:cubicBezTo>
                  <a:pt x="1654" y="377"/>
                  <a:pt x="1629" y="289"/>
                  <a:pt x="1582" y="232"/>
                </a:cubicBezTo>
                <a:cubicBezTo>
                  <a:pt x="1442" y="65"/>
                  <a:pt x="1160" y="16"/>
                  <a:pt x="955" y="0"/>
                </a:cubicBezTo>
                <a:cubicBezTo>
                  <a:pt x="845" y="5"/>
                  <a:pt x="759" y="14"/>
                  <a:pt x="654" y="26"/>
                </a:cubicBezTo>
                <a:cubicBezTo>
                  <a:pt x="598" y="40"/>
                  <a:pt x="539" y="51"/>
                  <a:pt x="482" y="60"/>
                </a:cubicBezTo>
                <a:cubicBezTo>
                  <a:pt x="409" y="91"/>
                  <a:pt x="328" y="111"/>
                  <a:pt x="250" y="129"/>
                </a:cubicBezTo>
                <a:cubicBezTo>
                  <a:pt x="202" y="152"/>
                  <a:pt x="153" y="180"/>
                  <a:pt x="104" y="198"/>
                </a:cubicBezTo>
                <a:cubicBezTo>
                  <a:pt x="98" y="204"/>
                  <a:pt x="90" y="208"/>
                  <a:pt x="86" y="215"/>
                </a:cubicBezTo>
                <a:cubicBezTo>
                  <a:pt x="72" y="239"/>
                  <a:pt x="86" y="267"/>
                  <a:pt x="52" y="267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Oval 56"/>
          <p:cNvSpPr/>
          <p:nvPr/>
        </p:nvSpPr>
        <p:spPr>
          <a:xfrm>
            <a:off x="6172200" y="2187720"/>
            <a:ext cx="212760" cy="2505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Oval 58"/>
          <p:cNvSpPr/>
          <p:nvPr/>
        </p:nvSpPr>
        <p:spPr>
          <a:xfrm>
            <a:off x="6095880" y="175248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4" name="TextBox 4"/>
          <p:cNvSpPr/>
          <p:nvPr/>
        </p:nvSpPr>
        <p:spPr>
          <a:xfrm>
            <a:off x="7658280" y="-3312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宋体"/>
              </a:rPr>
              <a:t>Cluster pruning: preprocess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"/>
                <a:ea typeface="宋体"/>
              </a:rPr>
              <a:t>Pick </a:t>
            </a:r>
            <a:r>
              <a:rPr b="0" lang="en-US" sz="35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500" spc="-1" strike="noStrike">
                <a:solidFill>
                  <a:srgbClr val="000000"/>
                </a:solidFill>
                <a:latin typeface="Lucida Sans"/>
                <a:ea typeface="宋体"/>
              </a:rPr>
              <a:t>N </a:t>
            </a:r>
            <a:r>
              <a:rPr b="0" i="1" lang="en-US" sz="3500" spc="-1" strike="noStrike">
                <a:solidFill>
                  <a:srgbClr val="000000"/>
                </a:solidFill>
                <a:latin typeface="Lucida Sans"/>
                <a:ea typeface="宋体"/>
              </a:rPr>
              <a:t>docs</a:t>
            </a:r>
            <a:r>
              <a:rPr b="0" lang="en-US" sz="3500" spc="-1" strike="noStrike">
                <a:solidFill>
                  <a:srgbClr val="000000"/>
                </a:solidFill>
                <a:latin typeface="Lucida Sans"/>
                <a:ea typeface="宋体"/>
              </a:rPr>
              <a:t> at random: call these </a:t>
            </a:r>
            <a:r>
              <a:rPr b="0" i="1" lang="en-US" sz="3500" spc="-1" strike="noStrike">
                <a:solidFill>
                  <a:srgbClr val="000000"/>
                </a:solidFill>
                <a:latin typeface="Lucida Sans"/>
                <a:ea typeface="宋体"/>
              </a:rPr>
              <a:t>leaders</a:t>
            </a:r>
            <a:endParaRPr b="0" lang="en-US" sz="3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876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00000"/>
                </a:solidFill>
                <a:latin typeface="Lucida Sans"/>
                <a:ea typeface="宋体"/>
              </a:rPr>
              <a:t>For every other doc, pre-compute nearest leader</a:t>
            </a:r>
            <a:endParaRPr b="0" lang="en-US" sz="35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宋体"/>
              </a:rPr>
              <a:t>Docs attached to a leader: its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宋体"/>
              </a:rPr>
              <a:t>followers;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"/>
                <a:ea typeface="宋体"/>
              </a:rPr>
              <a:t>Likely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宋体"/>
              </a:rPr>
              <a:t>: each leader has ~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宋体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宋体"/>
              </a:rPr>
              <a:t> follower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7" name="TextBox 4"/>
          <p:cNvSpPr/>
          <p:nvPr/>
        </p:nvSpPr>
        <p:spPr>
          <a:xfrm>
            <a:off x="7658280" y="-3312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宋体"/>
              </a:rPr>
              <a:t>Cluster pruning: query process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Sans"/>
                <a:ea typeface="宋体"/>
              </a:rPr>
              <a:t>Process a query as follows:</a:t>
            </a:r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宋体"/>
              </a:rPr>
              <a:t>Given query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宋体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宋体"/>
              </a:rPr>
              <a:t>, find its nearest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宋体"/>
              </a:rPr>
              <a:t>leader L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宋体"/>
              </a:rPr>
              <a:t>Seek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宋体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宋体"/>
              </a:rPr>
              <a:t> nearest docs from among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宋体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宋体"/>
              </a:rPr>
              <a:t>’s follower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0" name="TextBox 4"/>
          <p:cNvSpPr/>
          <p:nvPr/>
        </p:nvSpPr>
        <p:spPr>
          <a:xfrm>
            <a:off x="7658280" y="-3312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宋体"/>
              </a:rPr>
              <a:t>Why use random sampl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宋体"/>
              </a:rPr>
              <a:t>Fas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宋体"/>
              </a:rPr>
              <a:t>Leaders reflect data distribu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3" name="TextBox 4"/>
          <p:cNvSpPr/>
          <p:nvPr/>
        </p:nvSpPr>
        <p:spPr>
          <a:xfrm>
            <a:off x="7658280" y="-3312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99"/>
                </a:solidFill>
                <a:latin typeface="Tahoma"/>
              </a:rPr>
              <a:t>Ranking: Google </a:t>
            </a:r>
            <a:r>
              <a:rPr b="0" i="1" lang="it-IT" sz="4000" spc="-1" strike="noStrike">
                <a:solidFill>
                  <a:srgbClr val="000099"/>
                </a:solidFill>
                <a:latin typeface="Tahoma"/>
              </a:rPr>
              <a:t>vs</a:t>
            </a:r>
            <a:r>
              <a:rPr b="0" lang="it-IT" sz="4000" spc="-1" strike="noStrike">
                <a:solidFill>
                  <a:srgbClr val="000099"/>
                </a:solidFill>
                <a:latin typeface="Tahoma"/>
              </a:rPr>
              <a:t>  Google.c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6" name="Picture 3" descr="Picture3"/>
          <p:cNvPicPr/>
          <p:nvPr/>
        </p:nvPicPr>
        <p:blipFill>
          <a:blip r:embed="rId1"/>
          <a:stretch/>
        </p:blipFill>
        <p:spPr>
          <a:xfrm>
            <a:off x="0" y="1419120"/>
            <a:ext cx="902808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宋体"/>
              </a:rPr>
              <a:t>General varian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宋体"/>
              </a:rPr>
              <a:t>Have each follower attached to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宋体"/>
              </a:rPr>
              <a:t>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  <a:ea typeface="宋体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宋体"/>
              </a:rPr>
              <a:t>=3 (say) nearest leader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宋体"/>
              </a:rPr>
              <a:t>From query, find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  <a:ea typeface="宋体"/>
              </a:rPr>
              <a:t>b</a:t>
            </a:r>
            <a:r>
              <a:rPr b="0" i="1" lang="en-US" sz="2600" spc="-1" strike="noStrike" baseline="-25000">
                <a:solidFill>
                  <a:srgbClr val="c00000"/>
                </a:solidFill>
                <a:latin typeface="Lucida Sans"/>
                <a:ea typeface="宋体"/>
              </a:rPr>
              <a:t>2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宋体"/>
              </a:rPr>
              <a:t>=4 (say) nearest leaders and their follower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宋体"/>
              </a:rPr>
              <a:t>Can recur on leader/follower construction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6" name="TextBox 4"/>
          <p:cNvSpPr/>
          <p:nvPr/>
        </p:nvSpPr>
        <p:spPr>
          <a:xfrm>
            <a:off x="7658280" y="-3312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lgoritmi per IR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Relevance feedbac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宋体"/>
              </a:rPr>
              <a:t>Relevance Feedbac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440" y="191124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宋体"/>
              </a:rPr>
              <a:t>Relevance feedback: user feedback on relevance of docs in initial set of resul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8c1"/>
                </a:solidFill>
                <a:latin typeface="Lucida Sans"/>
                <a:ea typeface="宋体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 issues a (short, simple)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宋体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 marks some results as relevant or non-relevant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宋体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 computes a better representation of the information need based on feedback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Relevance feedback can go through one or more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宋体"/>
              </a:rPr>
              <a:t>iteration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1" name="TextBox 4"/>
          <p:cNvSpPr/>
          <p:nvPr/>
        </p:nvSpPr>
        <p:spPr>
          <a:xfrm>
            <a:off x="7647120" y="-33120"/>
            <a:ext cx="91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9.1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宋体"/>
              </a:rPr>
              <a:t>Rocchio’s Algorith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he Rocchio algorithm uses the vector space model to pick a relevance feed-back query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Rocchio seeks the query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q</a:t>
            </a:r>
            <a:r>
              <a:rPr b="0" i="1" lang="en-US" sz="2600" spc="-1" strike="noStrike" baseline="-25000">
                <a:solidFill>
                  <a:srgbClr val="c00000"/>
                </a:solidFill>
                <a:latin typeface="Lucida Sans"/>
                <a:ea typeface="ＭＳ Ｐゴシック"/>
              </a:rPr>
              <a:t>opt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 that maximiz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64" name="Straight Arrow Connector 4"/>
          <p:cNvCxnSpPr/>
          <p:nvPr/>
        </p:nvCxnSpPr>
        <p:spPr>
          <a:xfrm>
            <a:off x="5206680" y="3139560"/>
            <a:ext cx="229320" cy="2520"/>
          </a:xfrm>
          <a:prstGeom prst="straightConnector1">
            <a:avLst/>
          </a:prstGeom>
          <a:ln w="12600">
            <a:solidFill>
              <a:srgbClr val="c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365" name="Object 2"/>
              <p:cNvSpPr txBox="1"/>
              <p:nvPr/>
            </p:nvSpPr>
            <p:spPr>
              <a:xfrm>
                <a:off x="539640" y="4078440"/>
                <a:ext cx="8353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lim>
                    </m:limLow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6" name="TextBox 7"/>
          <p:cNvSpPr/>
          <p:nvPr/>
        </p:nvSpPr>
        <p:spPr>
          <a:xfrm>
            <a:off x="7658280" y="-3312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9.1.1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宋体"/>
              </a:rPr>
              <a:t>Rocchio (SMART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宋体"/>
              </a:rPr>
              <a:t>Used in practic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Lucida Sans"/>
                <a:ea typeface="宋体"/>
              </a:rPr>
              <a:t>D</a:t>
            </a:r>
            <a:r>
              <a:rPr b="1" i="1" lang="en-US" sz="2800" spc="-1" strike="noStrike" baseline="-25000">
                <a:solidFill>
                  <a:srgbClr val="c00000"/>
                </a:solidFill>
                <a:latin typeface="Lucida Sans"/>
                <a:ea typeface="宋体"/>
              </a:rPr>
              <a:t>r  </a:t>
            </a:r>
            <a:r>
              <a:rPr b="1" i="1" lang="en-US" sz="2800" spc="-1" strike="noStrike">
                <a:solidFill>
                  <a:srgbClr val="c00000"/>
                </a:solidFill>
                <a:latin typeface="Lucida Sans"/>
                <a:ea typeface="宋体"/>
              </a:rPr>
              <a:t>=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宋体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宋体"/>
              </a:rPr>
              <a:t>set of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Lucida Sans"/>
                <a:ea typeface="宋体"/>
              </a:rPr>
              <a:t>known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宋体"/>
              </a:rPr>
              <a:t> relevant doc vecto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Lucida Sans"/>
                <a:ea typeface="宋体"/>
              </a:rPr>
              <a:t>D</a:t>
            </a:r>
            <a:r>
              <a:rPr b="1" i="1" lang="en-US" sz="2800" spc="-1" strike="noStrike" baseline="-25000">
                <a:solidFill>
                  <a:srgbClr val="c00000"/>
                </a:solidFill>
                <a:latin typeface="Lucida Sans"/>
                <a:ea typeface="宋体"/>
              </a:rPr>
              <a:t>nr</a:t>
            </a:r>
            <a:r>
              <a:rPr b="1" lang="en-US" sz="2800" spc="-1" strike="noStrike">
                <a:solidFill>
                  <a:srgbClr val="c00000"/>
                </a:solidFill>
                <a:latin typeface="Lucida Sans"/>
                <a:ea typeface="宋体"/>
              </a:rPr>
              <a:t> =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宋体"/>
              </a:rPr>
              <a:t> set of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Lucida Sans"/>
                <a:ea typeface="宋体"/>
              </a:rPr>
              <a:t>known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宋体"/>
              </a:rPr>
              <a:t> irrelevant doc vecto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宋体"/>
              </a:rPr>
              <a:t>q</a:t>
            </a:r>
            <a:r>
              <a:rPr b="1" i="1" lang="en-US" sz="2400" spc="-1" strike="noStrike" baseline="-25000">
                <a:solidFill>
                  <a:srgbClr val="c00000"/>
                </a:solidFill>
                <a:latin typeface="Lucida Sans"/>
                <a:ea typeface="宋体"/>
              </a:rPr>
              <a:t>m</a:t>
            </a:r>
            <a:r>
              <a:rPr b="1" lang="en-US" sz="2400" spc="-1" strike="noStrike">
                <a:solidFill>
                  <a:srgbClr val="c00000"/>
                </a:solidFill>
                <a:latin typeface="Lucida Sans"/>
                <a:ea typeface="宋体"/>
              </a:rPr>
              <a:t> =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宋体"/>
              </a:rPr>
              <a:t> modified query vector; </a:t>
            </a:r>
            <a:r>
              <a:rPr b="0" i="1" lang="en-US" sz="2400" spc="-1" strike="noStrike">
                <a:solidFill>
                  <a:srgbClr val="c00000"/>
                </a:solidFill>
                <a:latin typeface="Lucida Sans"/>
                <a:ea typeface="宋体"/>
              </a:rPr>
              <a:t>q</a:t>
            </a:r>
            <a:r>
              <a:rPr b="0" i="1" lang="en-US" sz="2400" spc="-1" strike="noStrike" baseline="-25000">
                <a:solidFill>
                  <a:srgbClr val="c00000"/>
                </a:solidFill>
                <a:latin typeface="Lucida Sans"/>
                <a:ea typeface="宋体"/>
              </a:rPr>
              <a:t>0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宋体"/>
              </a:rPr>
              <a:t> = original query vector; </a:t>
            </a:r>
            <a:r>
              <a:rPr b="1" i="1" lang="el-GR" sz="24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α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宋体"/>
              </a:rPr>
              <a:t>,</a:t>
            </a:r>
            <a:r>
              <a:rPr b="1" i="1" lang="el-GR" sz="24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β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宋体"/>
              </a:rPr>
              <a:t>,</a:t>
            </a:r>
            <a:r>
              <a:rPr b="1" i="1" lang="el-GR" sz="24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γ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宋体"/>
              </a:rPr>
              <a:t>: weights (hand-chosen or set empirically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New query moves toward relevant documents and away from irrelevant doc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7"/>
              <p:cNvSpPr txBox="1"/>
              <p:nvPr/>
            </p:nvSpPr>
            <p:spPr>
              <a:xfrm>
                <a:off x="1069920" y="2158920"/>
                <a:ext cx="710568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β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γ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sub>
                            </m:sSub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r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0" name="TextBox 6"/>
          <p:cNvSpPr/>
          <p:nvPr/>
        </p:nvSpPr>
        <p:spPr>
          <a:xfrm>
            <a:off x="7658280" y="-3312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9.1.1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宋体"/>
              </a:rPr>
              <a:t>Relevance Feedback: Proble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宋体"/>
              </a:rPr>
              <a:t>Users are often reluctant to provide explicit feedbac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宋体"/>
              </a:rPr>
              <a:t>It’s often harder to understand why a particular document was retrieved after applying relevance feedbac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here is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no clear evidenc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that relevance feedback is the “best use” of the user’s tim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宋体"/>
              </a:rPr>
              <a:t>Relevance Feedback on the Web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1124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宋体"/>
              </a:rPr>
              <a:t>Some search engines offer a similar/related pages feature (this is a trivial form of relevance feedback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宋体"/>
              </a:rPr>
              <a:t>Google (link-base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宋体"/>
              </a:rPr>
              <a:t>Altavist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宋体"/>
              </a:rPr>
              <a:t>Stanford WebBa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-32904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Lucida Sans"/>
                <a:ea typeface="宋体"/>
              </a:rPr>
              <a:t>Some don’t because it’s hard to explain to users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  <a:ea typeface="宋体"/>
              </a:rPr>
              <a:t>Allthewe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  <a:ea typeface="宋体"/>
              </a:rPr>
              <a:t>b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  <a:ea typeface="宋体"/>
              </a:rPr>
              <a:t>Yaho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-32904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Sans"/>
                <a:ea typeface="宋体"/>
              </a:rPr>
              <a:t>Excite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宋体"/>
              </a:rPr>
              <a:t>initially had true relevance feedback, but abandoned it due to lack of use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5" name="AutoShape 4"/>
          <p:cNvSpPr/>
          <p:nvPr/>
        </p:nvSpPr>
        <p:spPr>
          <a:xfrm>
            <a:off x="6324480" y="2590920"/>
            <a:ext cx="1752840" cy="838080"/>
          </a:xfrm>
          <a:prstGeom prst="leftArrow">
            <a:avLst>
              <a:gd name="adj1" fmla="val 50000"/>
              <a:gd name="adj2" fmla="val 5228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Lucida Sans"/>
                <a:ea typeface="Arial"/>
              </a:rPr>
              <a:t>α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宋体"/>
              </a:rPr>
              <a:t>/</a:t>
            </a:r>
            <a:r>
              <a:rPr b="1" lang="el-GR" sz="2000" spc="-1" strike="noStrike">
                <a:solidFill>
                  <a:srgbClr val="000000"/>
                </a:solidFill>
                <a:latin typeface="Lucida Sans"/>
                <a:ea typeface="Arial"/>
              </a:rPr>
              <a:t>β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宋体"/>
              </a:rPr>
              <a:t>/</a:t>
            </a:r>
            <a:r>
              <a:rPr b="1" lang="el-GR" sz="2000" spc="-1" strike="noStrike">
                <a:solidFill>
                  <a:srgbClr val="000000"/>
                </a:solidFill>
                <a:latin typeface="Lucida Sans"/>
                <a:ea typeface="Arial"/>
              </a:rPr>
              <a:t>γ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宋体"/>
              </a:rPr>
              <a:t> ??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TextBox 5"/>
          <p:cNvSpPr/>
          <p:nvPr/>
        </p:nvSpPr>
        <p:spPr>
          <a:xfrm>
            <a:off x="7658280" y="-3312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9.1.4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Pseudo relevance feedbac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seudo-relevance feedback automates the “manual” part of true relevance feedback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Retrieve a list of hits for the user’s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Assume that the top k are relevant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Do relevance feedback (e.g., Rocchio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orks very well on averag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t can go horribly wrong for some querie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ral iterations can cause query drift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9" name="TextBox 4"/>
          <p:cNvSpPr/>
          <p:nvPr/>
        </p:nvSpPr>
        <p:spPr>
          <a:xfrm>
            <a:off x="7658280" y="-3312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9.1.6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宋体"/>
              </a:rPr>
              <a:t>Query Expans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91124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宋体"/>
              </a:rPr>
              <a:t>In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宋体"/>
              </a:rPr>
              <a:t>relevance feedbac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宋体"/>
              </a:rPr>
              <a:t>, users give additional input (relevant/non-relevant) on 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  <a:ea typeface="宋体"/>
              </a:rPr>
              <a:t>document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宋体"/>
              </a:rPr>
              <a:t>, which is used to reweight terms in the documen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宋体"/>
              </a:rPr>
              <a:t>In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宋体"/>
              </a:rPr>
              <a:t>query expans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宋体"/>
              </a:rPr>
              <a:t>, users give additional input (good/bad search term) on 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  <a:ea typeface="宋体"/>
              </a:rPr>
              <a:t>words or phras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TextBox 4"/>
          <p:cNvSpPr/>
          <p:nvPr/>
        </p:nvSpPr>
        <p:spPr>
          <a:xfrm>
            <a:off x="7658280" y="-3312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9.2.2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宋体"/>
              </a:rPr>
              <a:t>How augment the user query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宋体"/>
              </a:rPr>
              <a:t>Manual thesaurus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宋体"/>
              </a:rPr>
              <a:t>(costly to generate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E.g. MedLine: physician, syn: doc, doctor, M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宋体"/>
              </a:rPr>
              <a:t>Global Analysis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宋体"/>
              </a:rPr>
              <a:t> </a:t>
            </a:r>
            <a:r>
              <a:rPr b="0" lang="en-US" sz="2200" spc="-1" strike="noStrike">
                <a:solidFill>
                  <a:srgbClr val="c00000"/>
                </a:solidFill>
                <a:latin typeface="Lucida Sans"/>
                <a:ea typeface="宋体"/>
              </a:rPr>
              <a:t>(static; all docs in collection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宋体"/>
              </a:rPr>
              <a:t>Automatically derived thesaur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-22392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  <a:ea typeface="宋体"/>
              </a:rPr>
              <a:t>(co-occurrence statistic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宋体"/>
              </a:rPr>
              <a:t>Refinements based on query-log min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-22392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  <a:ea typeface="宋体"/>
              </a:rPr>
              <a:t>Common on the we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宋体"/>
              </a:rPr>
              <a:t>Local Analysi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宋体"/>
              </a:rPr>
              <a:t> (dynamic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Analysis of documents in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宋体"/>
              </a:rPr>
              <a:t>result se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TextBox 4"/>
          <p:cNvSpPr/>
          <p:nvPr/>
        </p:nvSpPr>
        <p:spPr>
          <a:xfrm>
            <a:off x="7658280" y="-3312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9.2.2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lgoritmi per IR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Lucida Sans"/>
              </a:rPr>
              <a:t>Text-based Ranking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508"/>
                </a:solidFill>
                <a:latin typeface="Lucida Sans"/>
              </a:rPr>
              <a:t>(1° generation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Query assis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87" name="Content Placeholder 3" descr="queryexp.gif"/>
          <p:cNvPicPr/>
          <p:nvPr/>
        </p:nvPicPr>
        <p:blipFill>
          <a:blip r:embed="rId1"/>
          <a:stretch/>
        </p:blipFill>
        <p:spPr>
          <a:xfrm>
            <a:off x="125280" y="1600200"/>
            <a:ext cx="8866440" cy="2514600"/>
          </a:xfrm>
          <a:prstGeom prst="rect">
            <a:avLst/>
          </a:prstGeom>
          <a:ln w="0">
            <a:noFill/>
          </a:ln>
        </p:spPr>
      </p:pic>
      <p:sp>
        <p:nvSpPr>
          <p:cNvPr id="388" name="Up Arrow Callout 4"/>
          <p:cNvSpPr/>
          <p:nvPr/>
        </p:nvSpPr>
        <p:spPr>
          <a:xfrm>
            <a:off x="909720" y="4362120"/>
            <a:ext cx="7105680" cy="1082880"/>
          </a:xfrm>
          <a:prstGeom prst="upArrowCallout">
            <a:avLst>
              <a:gd name="adj1" fmla="val 25095"/>
              <a:gd name="adj2" fmla="val 25123"/>
              <a:gd name="adj3" fmla="val 25000"/>
              <a:gd name="adj4" fmla="val 7004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Would you expect such a feature to increase the query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volume at a search engine?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lgoritmi per IR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Zone index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Parametric and zone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hus far, a doc has been a term sequen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But documents have multiple part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ate of publica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Forma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hese are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  <a:ea typeface="ＭＳ Ｐゴシック"/>
              </a:rPr>
              <a:t>metadata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about a docum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3" name="TextBox 4"/>
          <p:cNvSpPr/>
          <p:nvPr/>
        </p:nvSpPr>
        <p:spPr>
          <a:xfrm>
            <a:off x="7647120" y="-33120"/>
            <a:ext cx="91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6.1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Zon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  <a:ea typeface="ＭＳ Ｐゴシック"/>
              </a:rPr>
              <a:t>zon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is a region of the doc that can contain an arbitrary amount of text e.g.,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References 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Build inverted indexes on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fields AND zones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to permit query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E.g., “find docs wi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erchant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n the title zone and matching the quer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gentle rain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6" name="TextBox 4"/>
          <p:cNvSpPr/>
          <p:nvPr/>
        </p:nvSpPr>
        <p:spPr>
          <a:xfrm>
            <a:off x="7647120" y="-33120"/>
            <a:ext cx="91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6.1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Example zone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98" name="Content Placeholder 3" descr="zoneindex.gif"/>
          <p:cNvPicPr/>
          <p:nvPr/>
        </p:nvPicPr>
        <p:blipFill>
          <a:blip r:embed="rId1"/>
          <a:stretch/>
        </p:blipFill>
        <p:spPr>
          <a:xfrm>
            <a:off x="152280" y="1828800"/>
            <a:ext cx="8686800" cy="26082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zoneindex2.gif"/>
          <p:cNvPicPr/>
          <p:nvPr/>
        </p:nvPicPr>
        <p:blipFill>
          <a:blip r:embed="rId2"/>
          <a:stretch/>
        </p:blipFill>
        <p:spPr>
          <a:xfrm>
            <a:off x="76320" y="5973840"/>
            <a:ext cx="8189640" cy="579240"/>
          </a:xfrm>
          <a:prstGeom prst="rect">
            <a:avLst/>
          </a:prstGeom>
          <a:ln w="0">
            <a:noFill/>
          </a:ln>
        </p:spPr>
      </p:pic>
      <p:sp>
        <p:nvSpPr>
          <p:cNvPr id="400" name="TextBox 7"/>
          <p:cNvSpPr/>
          <p:nvPr/>
        </p:nvSpPr>
        <p:spPr>
          <a:xfrm>
            <a:off x="534600" y="4952880"/>
            <a:ext cx="81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Lucida Sans"/>
              </a:rPr>
              <a:t>Encode zones in dictionary vs. postings.</a:t>
            </a:r>
            <a:endParaRPr b="1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1" name="Up Arrow 8"/>
          <p:cNvSpPr/>
          <p:nvPr/>
        </p:nvSpPr>
        <p:spPr>
          <a:xfrm>
            <a:off x="4495680" y="4572000"/>
            <a:ext cx="4842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2" name="Down Arrow 9"/>
          <p:cNvSpPr/>
          <p:nvPr/>
        </p:nvSpPr>
        <p:spPr>
          <a:xfrm>
            <a:off x="7238880" y="5486400"/>
            <a:ext cx="4842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3" name="TextBox 4"/>
          <p:cNvSpPr/>
          <p:nvPr/>
        </p:nvSpPr>
        <p:spPr>
          <a:xfrm>
            <a:off x="7647120" y="-33120"/>
            <a:ext cx="91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6.1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iered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Break postings up into a hierarchy of lis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Most importa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Least importa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nverted index thus broken up int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  <a:ea typeface="ＭＳ Ｐゴシック"/>
              </a:rPr>
              <a:t>tiers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of decreasing importan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At query time use top tier unless it fails to yield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K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doc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f so drop to lower ti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6" name="TextBox 4"/>
          <p:cNvSpPr/>
          <p:nvPr/>
        </p:nvSpPr>
        <p:spPr>
          <a:xfrm>
            <a:off x="7658280" y="-3312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7.2.1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Example tiered index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08" name="Content Placeholder 3" descr="tiered.gif"/>
          <p:cNvPicPr/>
          <p:nvPr/>
        </p:nvPicPr>
        <p:blipFill>
          <a:blip r:embed="rId1"/>
          <a:stretch/>
        </p:blipFill>
        <p:spPr>
          <a:xfrm>
            <a:off x="2057400" y="1523880"/>
            <a:ext cx="4648320" cy="5334120"/>
          </a:xfrm>
          <a:prstGeom prst="rect">
            <a:avLst/>
          </a:prstGeom>
          <a:ln w="0">
            <a:noFill/>
          </a:ln>
        </p:spPr>
      </p:pic>
      <p:sp>
        <p:nvSpPr>
          <p:cNvPr id="409" name="TextBox 4"/>
          <p:cNvSpPr/>
          <p:nvPr/>
        </p:nvSpPr>
        <p:spPr>
          <a:xfrm>
            <a:off x="7658280" y="-3312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7.2.1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Query term proximit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  <a:ea typeface="ＭＳ Ｐゴシック"/>
              </a:rPr>
              <a:t>Free text querie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: just a set of terms typed into the query box – common on the web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Users prefer docs in which query terms occur within close proximity of each oth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Would like scoring function to take this into account – how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2" name="TextBox 4"/>
          <p:cNvSpPr/>
          <p:nvPr/>
        </p:nvSpPr>
        <p:spPr>
          <a:xfrm>
            <a:off x="7658280" y="-3312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7.2.2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Query parser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E.g. query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rising interest rat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Run the query as a phrase query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f &lt;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docs contain the phras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rising interest rate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, run the two phrase queries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rising interes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nterest ra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f we still have &lt;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docs, run the vector space query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rising interest ra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Rank matching docs by vector space scor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5" name="TextBox 4"/>
          <p:cNvSpPr/>
          <p:nvPr/>
        </p:nvSpPr>
        <p:spPr>
          <a:xfrm>
            <a:off x="7658280" y="-3312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7.2.3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lgoritmi per IR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Quality of a Search Engin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imilarity between binary vector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ocument is binary vector X,Y in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core: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overlap measur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01" name="Object 2"/>
          <p:cNvGraphicFramePr/>
          <p:nvPr/>
        </p:nvGraphicFramePr>
        <p:xfrm>
          <a:off x="682560" y="4527720"/>
          <a:ext cx="7677360" cy="233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4527720"/>
                    <a:ext cx="7677360" cy="23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3" name="Object 3"/>
              <p:cNvSpPr txBox="1"/>
              <p:nvPr/>
            </p:nvSpPr>
            <p:spPr>
              <a:xfrm>
                <a:off x="3419640" y="3357720"/>
                <a:ext cx="1447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∩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4" name="AutoShape 6"/>
          <p:cNvSpPr/>
          <p:nvPr/>
        </p:nvSpPr>
        <p:spPr>
          <a:xfrm>
            <a:off x="6240960" y="3567960"/>
            <a:ext cx="2154240" cy="441360"/>
          </a:xfrm>
          <a:prstGeom prst="roundRect">
            <a:avLst>
              <a:gd name="adj" fmla="val 16667"/>
            </a:avLst>
          </a:pr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What’s wrong ?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s it good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fast does it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umber of documents/hou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Average document siz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fast does it searc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tency as a function of index siz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xpressiveness of the query languag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easures for a search engin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ll of the preceding criteria ar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easurabl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key measure: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user happines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less answers won’t make a user happ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appiness: elusive to measur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mmonest approach is given by the </a:t>
            </a:r>
            <a:r>
              <a:rPr b="0" i="1" lang="en-US" sz="2600" spc="-1" strike="noStrike">
                <a:solidFill>
                  <a:srgbClr val="3333cc"/>
                </a:solidFill>
                <a:latin typeface="Lucida Sans"/>
              </a:rPr>
              <a:t>relevance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 of search resul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ow do we measure it 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-4953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quires 3 element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benchmark document collec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benchmark suite of queri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binary assessment of eith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Relevan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Irrelevan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for each query-doc pai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valuating an IR syste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"/>
              </a:rPr>
              <a:t>Standard benchmarks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REC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ational Institute of Standards and Testing (NIST) has run large IR testbed for many yea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ther doc collections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arked by human experts, for each query and for each doc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Relevan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Irreleva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539640" y="5734080"/>
            <a:ext cx="8209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Lucida Sans"/>
              </a:rPr>
              <a:t>On the Web everything is more complicated since we cannot mark the </a:t>
            </a:r>
            <a:r>
              <a:rPr b="1" i="1" lang="en-US" sz="2200" spc="-1" strike="noStrike">
                <a:solidFill>
                  <a:srgbClr val="3333cc"/>
                </a:solidFill>
                <a:latin typeface="Lucida Sans"/>
              </a:rPr>
              <a:t>entire corpus </a:t>
            </a:r>
            <a:r>
              <a:rPr b="1" lang="en-US" sz="2200" spc="-1" strike="noStrike">
                <a:solidFill>
                  <a:srgbClr val="3333cc"/>
                </a:solidFill>
                <a:latin typeface="Lucida Sans"/>
              </a:rPr>
              <a:t>!!</a:t>
            </a:r>
            <a:endParaRPr b="1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General scenario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28" name="Group 3"/>
          <p:cNvGrpSpPr/>
          <p:nvPr/>
        </p:nvGrpSpPr>
        <p:grpSpPr>
          <a:xfrm>
            <a:off x="1476360" y="1700280"/>
            <a:ext cx="6858000" cy="3917160"/>
            <a:chOff x="1476360" y="1700280"/>
            <a:chExt cx="6858000" cy="3917160"/>
          </a:xfrm>
        </p:grpSpPr>
        <p:sp>
          <p:nvSpPr>
            <p:cNvPr id="429" name="Oval 4"/>
            <p:cNvSpPr/>
            <p:nvPr/>
          </p:nvSpPr>
          <p:spPr>
            <a:xfrm>
              <a:off x="2771640" y="1928880"/>
              <a:ext cx="5175360" cy="1828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0" name="Oval 5"/>
            <p:cNvSpPr/>
            <p:nvPr/>
          </p:nvSpPr>
          <p:spPr>
            <a:xfrm rot="19926600">
              <a:off x="2009520" y="2843280"/>
              <a:ext cx="4495680" cy="182880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1" name="Text Box 6"/>
            <p:cNvSpPr/>
            <p:nvPr/>
          </p:nvSpPr>
          <p:spPr>
            <a:xfrm>
              <a:off x="2743920" y="4443480"/>
              <a:ext cx="12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Relevant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2" name="Text Box 7"/>
            <p:cNvSpPr/>
            <p:nvPr/>
          </p:nvSpPr>
          <p:spPr>
            <a:xfrm>
              <a:off x="6200640" y="2386080"/>
              <a:ext cx="15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Retrieved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3" name="Rectangle 8"/>
            <p:cNvSpPr/>
            <p:nvPr/>
          </p:nvSpPr>
          <p:spPr>
            <a:xfrm>
              <a:off x="1476360" y="1700280"/>
              <a:ext cx="6858000" cy="3809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4" name="Text Box 9"/>
            <p:cNvSpPr/>
            <p:nvPr/>
          </p:nvSpPr>
          <p:spPr>
            <a:xfrm>
              <a:off x="1637640" y="1776240"/>
              <a:ext cx="121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llection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323640" y="155700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00000"/>
                </a:solidFill>
                <a:uFillTx/>
                <a:latin typeface="Lucida Sans"/>
              </a:rPr>
              <a:t>Precisio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 % docs retrieved that are relevant 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[issue “junk” found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Lucida Sans"/>
              </a:rPr>
              <a:t>Precision vs. Recall</a:t>
            </a:r>
            <a:endParaRPr b="0" lang="en-US" sz="3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7" name="Oval 4"/>
          <p:cNvSpPr/>
          <p:nvPr/>
        </p:nvSpPr>
        <p:spPr>
          <a:xfrm>
            <a:off x="2482920" y="2720880"/>
            <a:ext cx="5175360" cy="1828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8" name="Oval 5"/>
          <p:cNvSpPr/>
          <p:nvPr/>
        </p:nvSpPr>
        <p:spPr>
          <a:xfrm rot="19926600">
            <a:off x="1720440" y="3635280"/>
            <a:ext cx="4495680" cy="18288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2455200" y="523548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elevant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0" name="Text Box 7"/>
          <p:cNvSpPr/>
          <p:nvPr/>
        </p:nvSpPr>
        <p:spPr>
          <a:xfrm>
            <a:off x="5911920" y="31780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etrieved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1" name="Rectangle 8"/>
          <p:cNvSpPr/>
          <p:nvPr/>
        </p:nvSpPr>
        <p:spPr>
          <a:xfrm>
            <a:off x="1187280" y="2637000"/>
            <a:ext cx="6858000" cy="3809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2" name="Text Box 9"/>
          <p:cNvSpPr/>
          <p:nvPr/>
        </p:nvSpPr>
        <p:spPr>
          <a:xfrm>
            <a:off x="1348560" y="256860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3" name="Line 10"/>
          <p:cNvSpPr/>
          <p:nvPr/>
        </p:nvSpPr>
        <p:spPr>
          <a:xfrm>
            <a:off x="4643280" y="3284640"/>
            <a:ext cx="144720" cy="129672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4" name="Line 11"/>
          <p:cNvSpPr/>
          <p:nvPr/>
        </p:nvSpPr>
        <p:spPr>
          <a:xfrm>
            <a:off x="4859280" y="3284640"/>
            <a:ext cx="144360" cy="129672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5" name="Line 12"/>
          <p:cNvSpPr/>
          <p:nvPr/>
        </p:nvSpPr>
        <p:spPr>
          <a:xfrm>
            <a:off x="5076720" y="3284640"/>
            <a:ext cx="144720" cy="129672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6" name="Line 13"/>
          <p:cNvSpPr/>
          <p:nvPr/>
        </p:nvSpPr>
        <p:spPr>
          <a:xfrm>
            <a:off x="5292720" y="3213000"/>
            <a:ext cx="144360" cy="1297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7" name="Line 14"/>
          <p:cNvSpPr/>
          <p:nvPr/>
        </p:nvSpPr>
        <p:spPr>
          <a:xfrm>
            <a:off x="5508720" y="3213000"/>
            <a:ext cx="142920" cy="115272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8" name="Line 15"/>
          <p:cNvSpPr/>
          <p:nvPr/>
        </p:nvSpPr>
        <p:spPr>
          <a:xfrm>
            <a:off x="5724360" y="3284640"/>
            <a:ext cx="71640" cy="865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9" name="Line 16"/>
          <p:cNvSpPr/>
          <p:nvPr/>
        </p:nvSpPr>
        <p:spPr>
          <a:xfrm>
            <a:off x="4356000" y="3429000"/>
            <a:ext cx="144720" cy="107964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0" name="Line 17"/>
          <p:cNvSpPr/>
          <p:nvPr/>
        </p:nvSpPr>
        <p:spPr>
          <a:xfrm>
            <a:off x="4067280" y="3500280"/>
            <a:ext cx="144360" cy="100836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1" name="Line 18"/>
          <p:cNvSpPr/>
          <p:nvPr/>
        </p:nvSpPr>
        <p:spPr>
          <a:xfrm>
            <a:off x="3780000" y="3645000"/>
            <a:ext cx="71280" cy="72072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2" name="Line 19"/>
          <p:cNvSpPr/>
          <p:nvPr/>
        </p:nvSpPr>
        <p:spPr>
          <a:xfrm>
            <a:off x="3419640" y="3789360"/>
            <a:ext cx="72720" cy="5032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3" name="Line 20"/>
          <p:cNvSpPr/>
          <p:nvPr/>
        </p:nvSpPr>
        <p:spPr>
          <a:xfrm>
            <a:off x="3635280" y="3716280"/>
            <a:ext cx="0" cy="64944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4" name="Line 21"/>
          <p:cNvSpPr/>
          <p:nvPr/>
        </p:nvSpPr>
        <p:spPr>
          <a:xfrm>
            <a:off x="3132000" y="3933720"/>
            <a:ext cx="71640" cy="2872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5" name="Rectangle 22"/>
          <p:cNvSpPr/>
          <p:nvPr/>
        </p:nvSpPr>
        <p:spPr>
          <a:xfrm>
            <a:off x="324000" y="1916280"/>
            <a:ext cx="8569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c00000"/>
                </a:solidFill>
                <a:uFillTx/>
                <a:latin typeface="Lucida Sans"/>
              </a:rPr>
              <a:t>Recall</a:t>
            </a:r>
            <a:r>
              <a:rPr b="1" lang="en-US" sz="2200" spc="-1" strike="noStrike">
                <a:solidFill>
                  <a:srgbClr val="000000"/>
                </a:solidFill>
                <a:latin typeface="Lucida Sans"/>
              </a:rPr>
              <a:t>: % docs relevant that are retrieved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[issue “info” found]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ow to compute the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856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Precis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fraction of retrieved docs that are relevan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Recall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fraction of relevant docs that are retrieved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ctr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cision P = tp/(tp + fp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ctr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call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 R = tp/(tp + fn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1476360" y="2924280"/>
          <a:ext cx="6172200" cy="1536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Relevan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Not Relevan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Retrieve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p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true positive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fp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false positive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Not Retrieve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f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false negative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true negative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me consideration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an get high recall (but low precision) by retrieving all docs for all queries!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call is a non-decreasing function of the number of docs retrieve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cision usually decreases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1547640" y="2924280"/>
            <a:ext cx="6019920" cy="3504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recision-Recall curv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e measures Precision at various levels of Reca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Not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it is an AVERAGE over many queri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64" name="AutoShape 5"/>
          <p:cNvCxnSpPr/>
          <p:nvPr/>
        </p:nvCxnSpPr>
        <p:spPr>
          <a:xfrm>
            <a:off x="3520800" y="3224160"/>
            <a:ext cx="1080" cy="2286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65" name="AutoShape 6"/>
          <p:cNvCxnSpPr/>
          <p:nvPr/>
        </p:nvCxnSpPr>
        <p:spPr>
          <a:xfrm>
            <a:off x="3521160" y="5509800"/>
            <a:ext cx="27439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6" name="Freeform 7"/>
          <p:cNvSpPr/>
          <p:nvPr/>
        </p:nvSpPr>
        <p:spPr>
          <a:xfrm>
            <a:off x="3749760" y="3605040"/>
            <a:ext cx="1981080" cy="16765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248" h="1056">
                <a:moveTo>
                  <a:pt x="0" y="0"/>
                </a:moveTo>
                <a:cubicBezTo>
                  <a:pt x="24" y="100"/>
                  <a:pt x="48" y="200"/>
                  <a:pt x="144" y="336"/>
                </a:cubicBezTo>
                <a:cubicBezTo>
                  <a:pt x="240" y="472"/>
                  <a:pt x="392" y="696"/>
                  <a:pt x="576" y="816"/>
                </a:cubicBezTo>
                <a:cubicBezTo>
                  <a:pt x="760" y="936"/>
                  <a:pt x="1004" y="996"/>
                  <a:pt x="1248" y="1056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7" name="Text Box 8"/>
          <p:cNvSpPr/>
          <p:nvPr/>
        </p:nvSpPr>
        <p:spPr>
          <a:xfrm>
            <a:off x="1815840" y="337644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cision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8" name="Text Box 9"/>
          <p:cNvSpPr/>
          <p:nvPr/>
        </p:nvSpPr>
        <p:spPr>
          <a:xfrm>
            <a:off x="4470120" y="55101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all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4963320" y="4900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3744000" y="3757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1" name="Text Box 12"/>
          <p:cNvSpPr/>
          <p:nvPr/>
        </p:nvSpPr>
        <p:spPr>
          <a:xfrm>
            <a:off x="4048920" y="4290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2" name="Text Box 13"/>
          <p:cNvSpPr/>
          <p:nvPr/>
        </p:nvSpPr>
        <p:spPr>
          <a:xfrm>
            <a:off x="5496480" y="5052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1619280" y="2276640"/>
            <a:ext cx="6019920" cy="365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 common pictur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75" name="AutoShape 4"/>
          <p:cNvCxnSpPr/>
          <p:nvPr/>
        </p:nvCxnSpPr>
        <p:spPr>
          <a:xfrm>
            <a:off x="3447720" y="2657520"/>
            <a:ext cx="1080" cy="2286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76" name="AutoShape 5"/>
          <p:cNvCxnSpPr/>
          <p:nvPr/>
        </p:nvCxnSpPr>
        <p:spPr>
          <a:xfrm>
            <a:off x="3448080" y="4943160"/>
            <a:ext cx="27439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7" name="Freeform 6"/>
          <p:cNvSpPr/>
          <p:nvPr/>
        </p:nvSpPr>
        <p:spPr>
          <a:xfrm>
            <a:off x="3828960" y="3114720"/>
            <a:ext cx="1981440" cy="167652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248" h="1056">
                <a:moveTo>
                  <a:pt x="0" y="0"/>
                </a:moveTo>
                <a:cubicBezTo>
                  <a:pt x="24" y="100"/>
                  <a:pt x="48" y="200"/>
                  <a:pt x="144" y="336"/>
                </a:cubicBezTo>
                <a:cubicBezTo>
                  <a:pt x="240" y="472"/>
                  <a:pt x="392" y="696"/>
                  <a:pt x="576" y="816"/>
                </a:cubicBezTo>
                <a:cubicBezTo>
                  <a:pt x="760" y="936"/>
                  <a:pt x="1004" y="996"/>
                  <a:pt x="1248" y="1056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8" name="Text Box 7"/>
          <p:cNvSpPr/>
          <p:nvPr/>
        </p:nvSpPr>
        <p:spPr>
          <a:xfrm>
            <a:off x="1743120" y="319104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cision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9" name="Text Box 8"/>
          <p:cNvSpPr/>
          <p:nvPr/>
        </p:nvSpPr>
        <p:spPr>
          <a:xfrm>
            <a:off x="4549320" y="517212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all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0" name="Text Box 9"/>
          <p:cNvSpPr/>
          <p:nvPr/>
        </p:nvSpPr>
        <p:spPr>
          <a:xfrm>
            <a:off x="4890240" y="433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1" name="Text Box 10"/>
          <p:cNvSpPr/>
          <p:nvPr/>
        </p:nvSpPr>
        <p:spPr>
          <a:xfrm>
            <a:off x="3747240" y="3114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2" name="Text Box 11"/>
          <p:cNvSpPr/>
          <p:nvPr/>
        </p:nvSpPr>
        <p:spPr>
          <a:xfrm>
            <a:off x="4052160" y="3571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3" name="Text Box 12"/>
          <p:cNvSpPr/>
          <p:nvPr/>
        </p:nvSpPr>
        <p:spPr>
          <a:xfrm>
            <a:off x="5423760" y="4486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4" name="Freeform 13"/>
          <p:cNvSpPr/>
          <p:nvPr/>
        </p:nvSpPr>
        <p:spPr>
          <a:xfrm rot="20745600">
            <a:off x="3753000" y="3038040"/>
            <a:ext cx="1981080" cy="16765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248" h="1056">
                <a:moveTo>
                  <a:pt x="0" y="0"/>
                </a:moveTo>
                <a:cubicBezTo>
                  <a:pt x="24" y="100"/>
                  <a:pt x="48" y="200"/>
                  <a:pt x="144" y="336"/>
                </a:cubicBezTo>
                <a:cubicBezTo>
                  <a:pt x="240" y="472"/>
                  <a:pt x="392" y="696"/>
                  <a:pt x="576" y="816"/>
                </a:cubicBezTo>
                <a:cubicBezTo>
                  <a:pt x="760" y="936"/>
                  <a:pt x="1004" y="996"/>
                  <a:pt x="1248" y="1056"/>
                </a:cubicBezTo>
              </a:path>
            </a:pathLst>
          </a:custGeom>
          <a:noFill/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Normaliza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3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ice coefficient 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(wrt avg #terms)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Jaccard coefficient </a:t>
            </a:r>
            <a:r>
              <a:rPr b="0" lang="en-US" sz="1900" spc="-1" strike="noStrike">
                <a:solidFill>
                  <a:srgbClr val="00a000"/>
                </a:solidFill>
                <a:latin typeface="Lucida Sans"/>
              </a:rPr>
              <a:t>(wrt possible terms)</a:t>
            </a: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2"/>
              <p:cNvSpPr txBox="1"/>
              <p:nvPr/>
            </p:nvSpPr>
            <p:spPr>
              <a:xfrm>
                <a:off x="3071880" y="4505400"/>
                <a:ext cx="27352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∩</m:t>
                            </m:r>
                            <m:r>
                              <m:t xml:space="preserve">Y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∪</m:t>
                            </m:r>
                            <m:r>
                              <m:t xml:space="preserve">Y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4"/>
              <p:cNvSpPr txBox="1"/>
              <p:nvPr/>
            </p:nvSpPr>
            <p:spPr>
              <a:xfrm>
                <a:off x="2916360" y="2276640"/>
                <a:ext cx="39607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∩</m:t>
                            </m:r>
                            <m:r>
                              <m:t xml:space="preserve">Y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AutoShape 8"/>
          <p:cNvSpPr/>
          <p:nvPr/>
        </p:nvSpPr>
        <p:spPr>
          <a:xfrm>
            <a:off x="6915240" y="4307760"/>
            <a:ext cx="1849320" cy="407880"/>
          </a:xfrm>
          <a:prstGeom prst="roundRect">
            <a:avLst>
              <a:gd name="adj" fmla="val 16667"/>
            </a:avLst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Lucida Sans"/>
              </a:rPr>
              <a:t>OK, triangular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AutoShape 10"/>
          <p:cNvSpPr/>
          <p:nvPr/>
        </p:nvSpPr>
        <p:spPr>
          <a:xfrm>
            <a:off x="6826680" y="2204280"/>
            <a:ext cx="1883160" cy="407880"/>
          </a:xfrm>
          <a:prstGeom prst="roundRect">
            <a:avLst>
              <a:gd name="adj" fmla="val 16667"/>
            </a:avLst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Lucida Sans"/>
              </a:rPr>
              <a:t>NO, triangular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F measur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Combined measur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(weighted harmonic mean)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People usually use balanced 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"/>
              </a:rPr>
              <a:t>1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measur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.e., wit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½ thus 1/F = ½ (1/P + 1/R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Use this if you need to optimize a single measure that balances precision and recall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Object 2"/>
              <p:cNvSpPr txBox="1"/>
              <p:nvPr/>
            </p:nvSpPr>
            <p:spPr>
              <a:xfrm>
                <a:off x="2754360" y="2454120"/>
                <a:ext cx="3405240" cy="15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nformation Retrieval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Recommendation Systems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Recommendation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have a list of restaurants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ratings for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som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Lucida Sans"/>
              </a:rPr>
              <a:t>Which restaurant(s) should I recommend to Dave?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492" name="Object 2"/>
          <p:cNvGraphicFramePr/>
          <p:nvPr/>
        </p:nvGraphicFramePr>
        <p:xfrm>
          <a:off x="311040" y="3503520"/>
          <a:ext cx="8353440" cy="155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3503520"/>
                    <a:ext cx="835344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asic Algorith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27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commend the most popular restauran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ay # positive votes minus # negative vo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 if Dave does not like Spaghetti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496" name="Object 2"/>
          <p:cNvGraphicFramePr/>
          <p:nvPr/>
        </p:nvGraphicFramePr>
        <p:xfrm>
          <a:off x="395280" y="3357720"/>
          <a:ext cx="8283600" cy="157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357720"/>
                    <a:ext cx="8283600" cy="15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AutoShape 5"/>
          <p:cNvSpPr/>
          <p:nvPr/>
        </p:nvSpPr>
        <p:spPr>
          <a:xfrm>
            <a:off x="2556000" y="2708280"/>
            <a:ext cx="64764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mart Algorith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75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Lucida Sans"/>
              </a:rPr>
              <a:t>Basic idea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 find the person “most similar” to Dave according to </a:t>
            </a:r>
            <a:r>
              <a:rPr b="0" lang="en-US" sz="2200" spc="-1" strike="noStrike">
                <a:solidFill>
                  <a:srgbClr val="ff0000"/>
                </a:solidFill>
                <a:latin typeface="Lucida Sans"/>
              </a:rPr>
              <a:t>cosine-similarity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(i.e. Estie), and then recommend something this person likes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haps recommend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aits Caf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 Dav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501" name="Object 2"/>
          <p:cNvGraphicFramePr/>
          <p:nvPr/>
        </p:nvGraphicFramePr>
        <p:xfrm>
          <a:off x="604800" y="4197240"/>
          <a:ext cx="8358120" cy="163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4197240"/>
                    <a:ext cx="8358120" cy="16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Rectangle 5"/>
          <p:cNvSpPr/>
          <p:nvPr/>
        </p:nvSpPr>
        <p:spPr>
          <a:xfrm>
            <a:off x="228600" y="617220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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Do you want to rely on </a:t>
            </a:r>
            <a:r>
              <a:rPr b="1" lang="en-US" sz="2000" spc="-1" strike="noStrike">
                <a:solidFill>
                  <a:srgbClr val="a40508"/>
                </a:solidFill>
                <a:latin typeface="Lucida Sans"/>
              </a:rPr>
              <a:t>one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000" spc="-1" strike="noStrike">
                <a:solidFill>
                  <a:srgbClr val="a40508"/>
                </a:solidFill>
                <a:latin typeface="Lucida Sans"/>
              </a:rPr>
              <a:t>person’s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opinions?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’s wrong in doc-similarity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Overlap matching doesn’t consider: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erm frequency in a document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Talks more of t ? Then t should be weighted more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erm scarcity in collection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Lucida Sans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commoner than </a:t>
            </a:r>
            <a:r>
              <a:rPr b="1" i="1" lang="en-US" sz="2400" spc="-1" strike="noStrike">
                <a:solidFill>
                  <a:srgbClr val="3333cc"/>
                </a:solidFill>
                <a:latin typeface="Lucida Sans"/>
              </a:rPr>
              <a:t>baby b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ength of documen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core should be normaliz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famous “weight”: tf-idf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3"/>
              <p:cNvSpPr txBox="1"/>
              <p:nvPr/>
            </p:nvSpPr>
            <p:spPr>
              <a:xfrm>
                <a:off x="1908000" y="1617840"/>
                <a:ext cx="42307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Rectangle 4"/>
          <p:cNvSpPr/>
          <p:nvPr/>
        </p:nvSpPr>
        <p:spPr>
          <a:xfrm>
            <a:off x="1073160" y="4497480"/>
            <a:ext cx="8542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1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3200400" y="298440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1676520" y="298440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1472400" y="2625840"/>
            <a:ext cx="5492880" cy="4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Frequency  of term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in doc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d  =  #occ</a:t>
            </a:r>
            <a:r>
              <a:rPr b="0" i="1" lang="it-IT" sz="23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/ |d|</a:t>
            </a: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766800" y="2625840"/>
            <a:ext cx="3492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700" spc="-1" strike="noStrike">
                <a:solidFill>
                  <a:srgbClr val="000000"/>
                </a:solidFill>
                <a:latin typeface="Times New Roman"/>
              </a:rPr>
              <a:t>tf</a:t>
            </a:r>
            <a:endParaRPr b="1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974880" y="2841480"/>
            <a:ext cx="20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t,d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1" name="Group 10"/>
          <p:cNvGrpSpPr/>
          <p:nvPr/>
        </p:nvGrpSpPr>
        <p:grpSpPr>
          <a:xfrm>
            <a:off x="622440" y="3322800"/>
            <a:ext cx="7910280" cy="1002960"/>
            <a:chOff x="622440" y="3322800"/>
            <a:chExt cx="7910280" cy="1002960"/>
          </a:xfrm>
        </p:grpSpPr>
        <p:sp>
          <p:nvSpPr>
            <p:cNvPr id="122" name="Line 11"/>
            <p:cNvSpPr/>
            <p:nvPr/>
          </p:nvSpPr>
          <p:spPr>
            <a:xfrm>
              <a:off x="2054160" y="3710160"/>
              <a:ext cx="255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" name="Rectangle 12"/>
            <p:cNvSpPr/>
            <p:nvPr/>
          </p:nvSpPr>
          <p:spPr>
            <a:xfrm>
              <a:off x="7756560" y="348948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" name="Rectangle 13"/>
            <p:cNvSpPr/>
            <p:nvPr/>
          </p:nvSpPr>
          <p:spPr>
            <a:xfrm>
              <a:off x="3790800" y="348948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5" name="Rectangle 14"/>
            <p:cNvSpPr/>
            <p:nvPr/>
          </p:nvSpPr>
          <p:spPr>
            <a:xfrm>
              <a:off x="2771640" y="3562200"/>
              <a:ext cx="57610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where n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= #docs containing term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n = #docs in the indexed collection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6" name="Rectangle 15"/>
            <p:cNvSpPr/>
            <p:nvPr/>
          </p:nvSpPr>
          <p:spPr>
            <a:xfrm>
              <a:off x="1433520" y="3489480"/>
              <a:ext cx="441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endParaRPr b="1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7" name="Rectangle 16"/>
            <p:cNvSpPr/>
            <p:nvPr/>
          </p:nvSpPr>
          <p:spPr>
            <a:xfrm>
              <a:off x="1090440" y="348948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" name="Rectangle 17"/>
            <p:cNvSpPr/>
            <p:nvPr/>
          </p:nvSpPr>
          <p:spPr>
            <a:xfrm>
              <a:off x="2077560" y="371016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1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Rectangle 18"/>
            <p:cNvSpPr/>
            <p:nvPr/>
          </p:nvSpPr>
          <p:spPr>
            <a:xfrm>
              <a:off x="2098080" y="335448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1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Rectangle 19"/>
            <p:cNvSpPr/>
            <p:nvPr/>
          </p:nvSpPr>
          <p:spPr>
            <a:xfrm>
              <a:off x="622440" y="3489480"/>
              <a:ext cx="365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idf</a:t>
              </a:r>
              <a:endParaRPr b="1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Rectangle 20"/>
            <p:cNvSpPr/>
            <p:nvPr/>
          </p:nvSpPr>
          <p:spPr>
            <a:xfrm>
              <a:off x="2215440" y="399420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1" lang="en-US" sz="15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Rectangle 21"/>
            <p:cNvSpPr/>
            <p:nvPr/>
          </p:nvSpPr>
          <p:spPr>
            <a:xfrm>
              <a:off x="1004760" y="37036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1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2355480" y="347652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1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Rectangle 23"/>
            <p:cNvSpPr/>
            <p:nvPr/>
          </p:nvSpPr>
          <p:spPr>
            <a:xfrm>
              <a:off x="2355480" y="369720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1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Rectangle 24"/>
            <p:cNvSpPr/>
            <p:nvPr/>
          </p:nvSpPr>
          <p:spPr>
            <a:xfrm>
              <a:off x="2355480" y="332280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1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Rectangle 25"/>
            <p:cNvSpPr/>
            <p:nvPr/>
          </p:nvSpPr>
          <p:spPr>
            <a:xfrm>
              <a:off x="1883880" y="347652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1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Rectangle 26"/>
            <p:cNvSpPr/>
            <p:nvPr/>
          </p:nvSpPr>
          <p:spPr>
            <a:xfrm>
              <a:off x="1883880" y="369720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1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" name="Rectangle 27"/>
            <p:cNvSpPr/>
            <p:nvPr/>
          </p:nvSpPr>
          <p:spPr>
            <a:xfrm>
              <a:off x="1883880" y="332280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1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" name="Rectangle 28"/>
            <p:cNvSpPr/>
            <p:nvPr/>
          </p:nvSpPr>
          <p:spPr>
            <a:xfrm>
              <a:off x="1127880" y="3451320"/>
              <a:ext cx="2736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1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40" name="Rectangle 29"/>
          <p:cNvSpPr/>
          <p:nvPr/>
        </p:nvSpPr>
        <p:spPr>
          <a:xfrm>
            <a:off x="1170720" y="2587680"/>
            <a:ext cx="273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41" name="Object 30"/>
          <p:cNvGraphicFramePr/>
          <p:nvPr/>
        </p:nvGraphicFramePr>
        <p:xfrm>
          <a:off x="1125360" y="4581360"/>
          <a:ext cx="7108920" cy="227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4581360"/>
                    <a:ext cx="7108920" cy="22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Rectangle 31"/>
          <p:cNvSpPr/>
          <p:nvPr/>
        </p:nvSpPr>
        <p:spPr>
          <a:xfrm>
            <a:off x="755640" y="4869000"/>
            <a:ext cx="8064360" cy="28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Rectangle 32"/>
          <p:cNvSpPr/>
          <p:nvPr/>
        </p:nvSpPr>
        <p:spPr>
          <a:xfrm>
            <a:off x="2050920" y="4510080"/>
            <a:ext cx="1657440" cy="2303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" name="AutoShape 33"/>
          <p:cNvSpPr/>
          <p:nvPr/>
        </p:nvSpPr>
        <p:spPr>
          <a:xfrm>
            <a:off x="4716360" y="5516640"/>
            <a:ext cx="3672000" cy="1152360"/>
          </a:xfrm>
          <a:prstGeom prst="horizontalScrol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Vector Space model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31520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Why distance is a bad idea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7" name="Content Placeholder 3" descr="vs1.gif"/>
          <p:cNvPicPr/>
          <p:nvPr/>
        </p:nvPicPr>
        <p:blipFill>
          <a:blip r:embed="rId1"/>
          <a:stretch/>
        </p:blipFill>
        <p:spPr>
          <a:xfrm>
            <a:off x="1403280" y="1628640"/>
            <a:ext cx="6408720" cy="5015160"/>
          </a:xfrm>
          <a:prstGeom prst="rect">
            <a:avLst/>
          </a:prstGeom>
          <a:ln w="0">
            <a:noFill/>
          </a:ln>
        </p:spPr>
      </p:pic>
      <p:sp>
        <p:nvSpPr>
          <p:cNvPr id="148" name="TextBox 8"/>
          <p:cNvSpPr/>
          <p:nvPr/>
        </p:nvSpPr>
        <p:spPr>
          <a:xfrm>
            <a:off x="7645680" y="-33120"/>
            <a:ext cx="91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cff"/>
                </a:solidFill>
                <a:latin typeface="Lucida Sans"/>
              </a:rPr>
              <a:t>Sec. 6.3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ferragin</cp:lastModifiedBy>
  <cp:lastPrinted>2009-04-22T19:24:48Z</cp:lastPrinted>
  <dcterms:modified xsi:type="dcterms:W3CDTF">2010-12-03T22:27:39Z</dcterms:modified>
  <cp:revision>1307</cp:revision>
  <dc:subject/>
  <dc:title>Web Algorithmics</dc:title>
</cp:coreProperties>
</file>